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562-6533-4CAA-84BB-992BD79A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913-3C9D-4B44-8261-2B0DB428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06D-3790-419B-8EF2-AC96DC4B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14D-4FC2-48F4-9C48-84485399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B78-0324-4823-B5EF-BC13EFCF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489-3F69-4F1B-8A0B-934FA2A6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687-0B1D-4B95-B352-D046A4D6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A3F-7F5E-4D93-8F47-073837CA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303-8ECA-4259-8E6D-B023046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825-FAD6-4DD2-9F66-4E92F0DA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0C0-7E7E-4F15-8AEF-8CCAFE65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E8C-447D-4176-A99C-27632179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25F6-9C98-433C-B42A-AF2CEFE3E8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&#31532;02&#31456;%20&#29275;&#39039;&#23450;&#24459;/2-4%20&#29275;&#39039;&#23450;&#24459;&#30340;&#24212;&#29992;&#20030;&#20363;.pp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-4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动能定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857160" y="28584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平桌面上有一质量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球，在外力作用下，沿半径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圆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移动了半圆周，如物体与桌面的摩擦系为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此过程中摩擦力对物体所做的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6118200" y="1814400"/>
            <a:ext cx="549360" cy="19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4140360" y="1844640"/>
            <a:ext cx="4716360" cy="1974960"/>
            <a:chOff x="4140360" y="1844640"/>
            <a:chExt cx="4716360" cy="1974960"/>
          </a:xfrm>
        </p:grpSpPr>
        <p:sp>
          <p:nvSpPr>
            <p:cNvPr id="282" name="AutoShape 7"/>
            <p:cNvSpPr/>
            <p:nvPr/>
          </p:nvSpPr>
          <p:spPr>
            <a:xfrm>
              <a:off x="4140360" y="1865520"/>
              <a:ext cx="4716360" cy="1954080"/>
            </a:xfrm>
            <a:prstGeom prst="parallelogram">
              <a:avLst>
                <a:gd name="adj" fmla="val 62686"/>
              </a:avLst>
            </a:prstGeom>
            <a:solidFill>
              <a:srgbClr val="9ed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8"/>
            <p:cNvGrpSpPr/>
            <p:nvPr/>
          </p:nvGrpSpPr>
          <p:grpSpPr>
            <a:xfrm>
              <a:off x="5897520" y="2021040"/>
              <a:ext cx="1568520" cy="1638360"/>
              <a:chOff x="5897520" y="2021040"/>
              <a:chExt cx="1568520" cy="1638360"/>
            </a:xfrm>
          </p:grpSpPr>
          <p:sp>
            <p:nvSpPr>
              <p:cNvPr id="284" name="Arc 9"/>
              <p:cNvSpPr/>
              <p:nvPr/>
            </p:nvSpPr>
            <p:spPr>
              <a:xfrm>
                <a:off x="5897520" y="2040120"/>
                <a:ext cx="1568520" cy="161928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1619280"/>
                  <a:gd name="textAreaBottom" fmla="*/ 1619640 h 1619280"/>
                </a:gdLst>
                <a:ahLst/>
                <a:rect l="textAreaLeft" t="textAreaTop" r="textAreaRight" b="textAreaBottom"/>
                <a:pathLst>
                  <a:path fill="none" w="29225" h="42200">
                    <a:moveTo>
                      <a:pt x="14120" y="-1"/>
                    </a:moveTo>
                    <a:cubicBezTo>
                      <a:pt x="23111" y="2834"/>
                      <a:pt x="29225" y="11172"/>
                      <a:pt x="29225" y="20600"/>
                    </a:cubicBezTo>
                    <a:cubicBezTo>
                      <a:pt x="29225" y="32529"/>
                      <a:pt x="19554" y="42200"/>
                      <a:pt x="7625" y="42200"/>
                    </a:cubicBezTo>
                    <a:cubicBezTo>
                      <a:pt x="5020" y="42200"/>
                      <a:pt x="2436" y="41728"/>
                      <a:pt x="-1" y="40809"/>
                    </a:cubicBezTo>
                  </a:path>
                  <a:path stroke="0" w="29225" h="42200">
                    <a:moveTo>
                      <a:pt x="14120" y="-1"/>
                    </a:moveTo>
                    <a:cubicBezTo>
                      <a:pt x="23111" y="2834"/>
                      <a:pt x="29225" y="11172"/>
                      <a:pt x="29225" y="20600"/>
                    </a:cubicBezTo>
                    <a:cubicBezTo>
                      <a:pt x="29225" y="32529"/>
                      <a:pt x="19554" y="42200"/>
                      <a:pt x="7625" y="42200"/>
                    </a:cubicBezTo>
                    <a:cubicBezTo>
                      <a:pt x="5020" y="42200"/>
                      <a:pt x="2436" y="41728"/>
                      <a:pt x="-1" y="40809"/>
                    </a:cubicBezTo>
                    <a:lnTo>
                      <a:pt x="7625" y="20600"/>
                    </a:lnTo>
                    <a:lnTo>
                      <a:pt x="1412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H="1">
                <a:off x="5905440" y="2021040"/>
                <a:ext cx="757440" cy="15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5470560" y="3149640"/>
              <a:ext cx="6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2"/>
            <p:cNvSpPr/>
            <p:nvPr/>
          </p:nvSpPr>
          <p:spPr>
            <a:xfrm>
              <a:off x="6132600" y="184464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5"/>
          <p:cNvGrpSpPr/>
          <p:nvPr/>
        </p:nvGrpSpPr>
        <p:grpSpPr>
          <a:xfrm>
            <a:off x="7147080" y="1974960"/>
            <a:ext cx="828000" cy="1420200"/>
            <a:chOff x="7147080" y="1974960"/>
            <a:chExt cx="828000" cy="1420200"/>
          </a:xfrm>
        </p:grpSpPr>
        <p:sp>
          <p:nvSpPr>
            <p:cNvPr id="289" name="Line 16"/>
            <p:cNvSpPr/>
            <p:nvPr/>
          </p:nvSpPr>
          <p:spPr>
            <a:xfrm>
              <a:off x="7437240" y="2625480"/>
              <a:ext cx="188640" cy="58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 flipH="1" flipV="1">
              <a:off x="7147080" y="2025360"/>
              <a:ext cx="290160" cy="59976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Object 18"/>
                <p:cNvSpPr txBox="1"/>
                <p:nvPr/>
              </p:nvSpPr>
              <p:spPr>
                <a:xfrm>
                  <a:off x="7626240" y="2842920"/>
                  <a:ext cx="34884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Object 19"/>
                <p:cNvSpPr txBox="1"/>
                <p:nvPr/>
              </p:nvSpPr>
              <p:spPr>
                <a:xfrm>
                  <a:off x="7451640" y="1974960"/>
                  <a:ext cx="423360" cy="59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3" name="Text Box 28"/>
          <p:cNvSpPr/>
          <p:nvPr/>
        </p:nvSpPr>
        <p:spPr>
          <a:xfrm>
            <a:off x="395280" y="1844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据功的定义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9"/>
              <p:cNvSpPr txBox="1"/>
              <p:nvPr/>
            </p:nvSpPr>
            <p:spPr>
              <a:xfrm>
                <a:off x="882720" y="2387520"/>
                <a:ext cx="2066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30"/>
              <p:cNvSpPr txBox="1"/>
              <p:nvPr/>
            </p:nvSpPr>
            <p:spPr>
              <a:xfrm>
                <a:off x="4932360" y="3933720"/>
                <a:ext cx="2550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μN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31"/>
              <p:cNvSpPr txBox="1"/>
              <p:nvPr/>
            </p:nvSpPr>
            <p:spPr>
              <a:xfrm>
                <a:off x="1332000" y="2997360"/>
                <a:ext cx="23414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2"/>
              <p:cNvSpPr txBox="1"/>
              <p:nvPr/>
            </p:nvSpPr>
            <p:spPr>
              <a:xfrm>
                <a:off x="1258920" y="3716280"/>
                <a:ext cx="2782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3"/>
              <p:cNvSpPr txBox="1"/>
              <p:nvPr/>
            </p:nvSpPr>
            <p:spPr>
              <a:xfrm>
                <a:off x="1332000" y="4653000"/>
                <a:ext cx="2309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Text Box 34"/>
          <p:cNvSpPr/>
          <p:nvPr/>
        </p:nvSpPr>
        <p:spPr>
          <a:xfrm>
            <a:off x="468360" y="587700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说明：摩擦力做功除与始末位置有关，还与中间过程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35"/>
          <p:cNvGrpSpPr/>
          <p:nvPr/>
        </p:nvGrpSpPr>
        <p:grpSpPr>
          <a:xfrm>
            <a:off x="1187280" y="5229360"/>
            <a:ext cx="5569200" cy="564480"/>
            <a:chOff x="1187280" y="5229360"/>
            <a:chExt cx="5569200" cy="564480"/>
          </a:xfrm>
        </p:grpSpPr>
        <p:sp>
          <p:nvSpPr>
            <p:cNvPr id="301" name="Text Box 36"/>
            <p:cNvSpPr/>
            <p:nvPr/>
          </p:nvSpPr>
          <p:spPr>
            <a:xfrm>
              <a:off x="1187280" y="5334120"/>
              <a:ext cx="35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物体直接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37"/>
                <p:cNvSpPr txBox="1"/>
                <p:nvPr/>
              </p:nvSpPr>
              <p:spPr>
                <a:xfrm>
                  <a:off x="4462200" y="5229360"/>
                  <a:ext cx="22942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t xml:space="preserve">2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266760" y="1197000"/>
                <a:ext cx="4994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04" name="Group 3"/>
          <p:cNvGrpSpPr/>
          <p:nvPr/>
        </p:nvGrpSpPr>
        <p:grpSpPr>
          <a:xfrm>
            <a:off x="684360" y="2997360"/>
            <a:ext cx="2579040" cy="1199880"/>
            <a:chOff x="684360" y="2997360"/>
            <a:chExt cx="2579040" cy="1199880"/>
          </a:xfrm>
        </p:grpSpPr>
        <mc:AlternateContent>
          <mc:Choice xmlns:a14="http://schemas.microsoft.com/office/drawing/2010/main" Requires="a14">
            <p:sp>
              <p:nvSpPr>
                <p:cNvPr id="305" name="Object 4"/>
                <p:cNvSpPr txBox="1"/>
                <p:nvPr/>
              </p:nvSpPr>
              <p:spPr>
                <a:xfrm>
                  <a:off x="1333080" y="2997360"/>
                  <a:ext cx="1930320" cy="11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m</m:t>
                      </m:r>
                      <m:f>
                        <m:num>
                          <m:r>
                            <m:t xml:space="preserve">d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Text Box 5"/>
            <p:cNvSpPr/>
            <p:nvPr/>
          </p:nvSpPr>
          <p:spPr>
            <a:xfrm>
              <a:off x="684360" y="3278160"/>
              <a:ext cx="73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2050920" y="5157720"/>
                <a:ext cx="3551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m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m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8" name="Text Box 7"/>
          <p:cNvSpPr/>
          <p:nvPr/>
        </p:nvSpPr>
        <p:spPr>
          <a:xfrm>
            <a:off x="1214280" y="14292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二    质点的动能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755640" y="4149720"/>
                <a:ext cx="29512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mv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9"/>
              <p:cNvSpPr txBox="1"/>
              <p:nvPr/>
            </p:nvSpPr>
            <p:spPr>
              <a:xfrm>
                <a:off x="755640" y="2205000"/>
                <a:ext cx="3311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0"/>
              <p:cNvSpPr txBox="1"/>
              <p:nvPr/>
            </p:nvSpPr>
            <p:spPr>
              <a:xfrm>
                <a:off x="6649920" y="1413000"/>
                <a:ext cx="441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4"/>
              <p:cNvSpPr txBox="1"/>
              <p:nvPr/>
            </p:nvSpPr>
            <p:spPr>
              <a:xfrm>
                <a:off x="8053560" y="3143160"/>
                <a:ext cx="473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3" name="Group 11"/>
          <p:cNvGrpSpPr/>
          <p:nvPr/>
        </p:nvGrpSpPr>
        <p:grpSpPr>
          <a:xfrm>
            <a:off x="5940360" y="1484280"/>
            <a:ext cx="2376720" cy="2330280"/>
            <a:chOff x="5940360" y="1484280"/>
            <a:chExt cx="2376720" cy="2330280"/>
          </a:xfrm>
        </p:grpSpPr>
        <p:sp>
          <p:nvSpPr>
            <p:cNvPr id="314" name="Freeform 12"/>
            <p:cNvSpPr/>
            <p:nvPr/>
          </p:nvSpPr>
          <p:spPr>
            <a:xfrm>
              <a:off x="6081840" y="1985760"/>
              <a:ext cx="2058840" cy="1828800"/>
            </a:xfrm>
            <a:custGeom>
              <a:avLst/>
              <a:gdLst>
                <a:gd name="textAreaLeft" fmla="*/ 0 w 2058840"/>
                <a:gd name="textAreaRight" fmla="*/ 2058840 w 205884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1296" h="1151">
                  <a:moveTo>
                    <a:pt x="0" y="0"/>
                  </a:moveTo>
                  <a:cubicBezTo>
                    <a:pt x="60" y="13"/>
                    <a:pt x="237" y="33"/>
                    <a:pt x="363" y="81"/>
                  </a:cubicBezTo>
                  <a:cubicBezTo>
                    <a:pt x="489" y="129"/>
                    <a:pt x="634" y="189"/>
                    <a:pt x="757" y="291"/>
                  </a:cubicBezTo>
                  <a:cubicBezTo>
                    <a:pt x="880" y="393"/>
                    <a:pt x="1014" y="551"/>
                    <a:pt x="1104" y="694"/>
                  </a:cubicBezTo>
                  <a:cubicBezTo>
                    <a:pt x="1194" y="837"/>
                    <a:pt x="1256" y="1056"/>
                    <a:pt x="1296" y="11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3"/>
            <p:cNvSpPr/>
            <p:nvPr/>
          </p:nvSpPr>
          <p:spPr>
            <a:xfrm>
              <a:off x="6083280" y="19875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7236000" y="2421000"/>
              <a:ext cx="0" cy="863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"/>
            <p:cNvSpPr/>
            <p:nvPr/>
          </p:nvSpPr>
          <p:spPr>
            <a:xfrm>
              <a:off x="7855200" y="3139920"/>
              <a:ext cx="72720" cy="7164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6"/>
            <p:cNvSpPr/>
            <p:nvPr/>
          </p:nvSpPr>
          <p:spPr>
            <a:xfrm>
              <a:off x="6026400" y="1944720"/>
              <a:ext cx="72720" cy="7128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"/>
            <p:cNvSpPr/>
            <p:nvPr/>
          </p:nvSpPr>
          <p:spPr>
            <a:xfrm>
              <a:off x="7207200" y="2362320"/>
              <a:ext cx="73080" cy="7128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5940360" y="14842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7812360" y="2779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7221600" y="2392200"/>
              <a:ext cx="338040" cy="2890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13" h="182">
                  <a:moveTo>
                    <a:pt x="0" y="0"/>
                  </a:moveTo>
                  <a:lnTo>
                    <a:pt x="213" y="182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rc 21"/>
            <p:cNvSpPr/>
            <p:nvPr/>
          </p:nvSpPr>
          <p:spPr>
            <a:xfrm flipV="1">
              <a:off x="7207200" y="2493360"/>
              <a:ext cx="201600" cy="215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-360 h 215640"/>
                <a:gd name="textAreaBottom" fmla="*/ 215640 h 215640"/>
              </a:gdLst>
              <a:ahLst/>
              <a:rect l="textAreaLeft" t="textAreaTop" r="textAreaRight" b="textAreaBottom"/>
              <a:pathLst>
                <a:path fill="none" w="20125" h="21600">
                  <a:moveTo>
                    <a:pt x="-1" y="0"/>
                  </a:moveTo>
                  <a:cubicBezTo>
                    <a:pt x="8901" y="0"/>
                    <a:pt x="16891" y="5461"/>
                    <a:pt x="20125" y="13754"/>
                  </a:cubicBezTo>
                </a:path>
                <a:path stroke="0" w="20125" h="21600">
                  <a:moveTo>
                    <a:pt x="-1" y="0"/>
                  </a:moveTo>
                  <a:cubicBezTo>
                    <a:pt x="8901" y="0"/>
                    <a:pt x="16891" y="5461"/>
                    <a:pt x="20125" y="1375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2"/>
            <p:cNvSpPr/>
            <p:nvPr/>
          </p:nvSpPr>
          <p:spPr>
            <a:xfrm>
              <a:off x="7107480" y="2593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23"/>
          <p:cNvSpPr/>
          <p:nvPr/>
        </p:nvSpPr>
        <p:spPr>
          <a:xfrm>
            <a:off x="5651640" y="1413000"/>
            <a:ext cx="3024000" cy="2736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5"/>
              <p:cNvSpPr txBox="1"/>
              <p:nvPr/>
            </p:nvSpPr>
            <p:spPr>
              <a:xfrm>
                <a:off x="6732720" y="3141720"/>
                <a:ext cx="436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6"/>
              <p:cNvSpPr txBox="1"/>
              <p:nvPr/>
            </p:nvSpPr>
            <p:spPr>
              <a:xfrm>
                <a:off x="7308720" y="1989000"/>
                <a:ext cx="576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642960" y="2357280"/>
            <a:ext cx="7704000" cy="126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合外力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点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所作的功，等于质点动能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量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质点的动能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1143000" y="1000080"/>
                <a:ext cx="65880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m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m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Text Box 11"/>
          <p:cNvSpPr/>
          <p:nvPr/>
        </p:nvSpPr>
        <p:spPr>
          <a:xfrm>
            <a:off x="500040" y="4182840"/>
            <a:ext cx="7500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4760" indent="-374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动能定理给出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力的空间积累效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，即功可以改变质点的动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838080" y="55029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4760" indent="-374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优点是当作用力在位移过程中不清楚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就可通过始、末状态动能的增量来求得该力的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5"/>
          <p:cNvSpPr/>
          <p:nvPr/>
        </p:nvSpPr>
        <p:spPr>
          <a:xfrm>
            <a:off x="1476360" y="2133720"/>
            <a:ext cx="6049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能是相对量，与参考系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8"/>
          <p:cNvGrpSpPr/>
          <p:nvPr/>
        </p:nvGrpSpPr>
        <p:grpSpPr>
          <a:xfrm>
            <a:off x="539640" y="981000"/>
            <a:ext cx="1676520" cy="990720"/>
            <a:chOff x="539640" y="981000"/>
            <a:chExt cx="1676520" cy="990720"/>
          </a:xfrm>
        </p:grpSpPr>
        <p:sp>
          <p:nvSpPr>
            <p:cNvPr id="334" name="AutoShape 7"/>
            <p:cNvSpPr/>
            <p:nvPr/>
          </p:nvSpPr>
          <p:spPr>
            <a:xfrm>
              <a:off x="539640" y="981000"/>
              <a:ext cx="1676520" cy="990720"/>
            </a:xfrm>
            <a:prstGeom prst="irregularSeal1">
              <a:avLst/>
            </a:prstGeom>
            <a:gradFill rotWithShape="0">
              <a:gsLst>
                <a:gs pos="0">
                  <a:srgbClr val="edffd2"/>
                </a:gs>
                <a:gs pos="50000">
                  <a:srgbClr val="ffffff"/>
                </a:gs>
                <a:gs pos="100000">
                  <a:srgbClr val="edffd2"/>
                </a:gs>
              </a:gsLst>
              <a:lin ang="5400000"/>
            </a:gra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8"/>
            <p:cNvSpPr/>
            <p:nvPr/>
          </p:nvSpPr>
          <p:spPr>
            <a:xfrm>
              <a:off x="860400" y="1125360"/>
              <a:ext cx="104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注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13"/>
          <p:cNvSpPr/>
          <p:nvPr/>
        </p:nvSpPr>
        <p:spPr>
          <a:xfrm>
            <a:off x="1487520" y="2924280"/>
            <a:ext cx="6459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能定理只能在惯性系中成立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2430720" y="364824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但对不同惯性系动能定理形式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476360" y="4317840"/>
            <a:ext cx="6049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功是过程量，动能是状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611280" y="1052640"/>
            <a:ext cx="5761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一质量为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1.0 kg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小球系在长为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1.0 m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细绳下端，绳的上端固定在天花板上．起初把绳子放在与竖直线成        角处，然后放手使小球沿圆弧下落．试求绳与竖直线成       角时小球的速率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4842000" y="2859120"/>
                <a:ext cx="720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842000" y="4005360"/>
                <a:ext cx="6840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7184880" y="4137120"/>
                <a:ext cx="352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Freeform 6"/>
          <p:cNvSpPr/>
          <p:nvPr/>
        </p:nvSpPr>
        <p:spPr>
          <a:xfrm>
            <a:off x="7026120" y="2593800"/>
            <a:ext cx="311400" cy="79560"/>
          </a:xfrm>
          <a:custGeom>
            <a:avLst/>
            <a:gdLst>
              <a:gd name="textAreaLeft" fmla="*/ 0 w 311400"/>
              <a:gd name="textAreaRight" fmla="*/ 311760 w 31140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42" h="59">
                <a:moveTo>
                  <a:pt x="0" y="26"/>
                </a:moveTo>
                <a:cubicBezTo>
                  <a:pt x="10" y="31"/>
                  <a:pt x="34" y="59"/>
                  <a:pt x="58" y="55"/>
                </a:cubicBezTo>
                <a:cubicBezTo>
                  <a:pt x="82" y="51"/>
                  <a:pt x="124" y="12"/>
                  <a:pt x="14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7"/>
              <p:cNvSpPr txBox="1"/>
              <p:nvPr/>
            </p:nvSpPr>
            <p:spPr>
              <a:xfrm>
                <a:off x="6727680" y="2292480"/>
                <a:ext cx="325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Line 8"/>
          <p:cNvSpPr/>
          <p:nvPr/>
        </p:nvSpPr>
        <p:spPr>
          <a:xfrm flipH="1">
            <a:off x="7042320" y="4160880"/>
            <a:ext cx="1180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6950160" y="4437000"/>
            <a:ext cx="272880" cy="274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7931160" y="3025800"/>
                <a:ext cx="220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11"/>
          <p:cNvSpPr/>
          <p:nvPr/>
        </p:nvSpPr>
        <p:spPr>
          <a:xfrm flipH="1">
            <a:off x="7414560" y="4446000"/>
            <a:ext cx="463680" cy="1861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6346800" y="1233360"/>
            <a:ext cx="22860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3"/>
          <p:cNvSpPr/>
          <p:nvPr/>
        </p:nvSpPr>
        <p:spPr>
          <a:xfrm>
            <a:off x="7027920" y="2120760"/>
            <a:ext cx="338040" cy="111240"/>
          </a:xfrm>
          <a:custGeom>
            <a:avLst/>
            <a:gdLst>
              <a:gd name="textAreaLeft" fmla="*/ 0 w 338040"/>
              <a:gd name="textAreaRight" fmla="*/ 338400 w 3380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70">
                <a:moveTo>
                  <a:pt x="0" y="34"/>
                </a:moveTo>
                <a:cubicBezTo>
                  <a:pt x="32" y="53"/>
                  <a:pt x="68" y="70"/>
                  <a:pt x="103" y="64"/>
                </a:cubicBezTo>
                <a:cubicBezTo>
                  <a:pt x="138" y="58"/>
                  <a:pt x="190" y="13"/>
                  <a:pt x="21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4"/>
              <p:cNvSpPr txBox="1"/>
              <p:nvPr/>
            </p:nvSpPr>
            <p:spPr>
              <a:xfrm>
                <a:off x="7108920" y="1606680"/>
                <a:ext cx="384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Line 15"/>
          <p:cNvSpPr/>
          <p:nvPr/>
        </p:nvSpPr>
        <p:spPr>
          <a:xfrm>
            <a:off x="7041600" y="1483560"/>
            <a:ext cx="807480" cy="2968560"/>
          </a:xfrm>
          <a:prstGeom prst="line">
            <a:avLst/>
          </a:prstGeom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rc 16"/>
          <p:cNvSpPr/>
          <p:nvPr/>
        </p:nvSpPr>
        <p:spPr>
          <a:xfrm flipV="1">
            <a:off x="7132680" y="4160160"/>
            <a:ext cx="1090440" cy="368280"/>
          </a:xfrm>
          <a:custGeom>
            <a:avLst/>
            <a:gdLst>
              <a:gd name="textAreaLeft" fmla="*/ 0 w 1090440"/>
              <a:gd name="textAreaRight" fmla="*/ 1090800 w 1090440"/>
              <a:gd name="textAreaTop" fmla="*/ -360 h 368280"/>
              <a:gd name="textAreaBottom" fmla="*/ 368280 h 368280"/>
            </a:gdLst>
            <a:ahLst/>
            <a:rect l="textAreaLeft" t="textAreaTop" r="textAreaRight" b="textAreaBottom"/>
            <a:pathLst>
              <a:path fill="none" w="24278" h="21600">
                <a:moveTo>
                  <a:pt x="-1" y="166"/>
                </a:moveTo>
                <a:cubicBezTo>
                  <a:pt x="888" y="55"/>
                  <a:pt x="1782" y="-1"/>
                  <a:pt x="2678" y="0"/>
                </a:cubicBezTo>
                <a:cubicBezTo>
                  <a:pt x="14607" y="0"/>
                  <a:pt x="24278" y="9670"/>
                  <a:pt x="24278" y="21600"/>
                </a:cubicBezTo>
              </a:path>
              <a:path stroke="0" w="24278" h="21600">
                <a:moveTo>
                  <a:pt x="-1" y="166"/>
                </a:moveTo>
                <a:cubicBezTo>
                  <a:pt x="888" y="55"/>
                  <a:pt x="1782" y="-1"/>
                  <a:pt x="2678" y="0"/>
                </a:cubicBezTo>
                <a:cubicBezTo>
                  <a:pt x="14607" y="0"/>
                  <a:pt x="24278" y="9670"/>
                  <a:pt x="24278" y="21600"/>
                </a:cubicBezTo>
                <a:lnTo>
                  <a:pt x="2678" y="21600"/>
                </a:lnTo>
                <a:lnTo>
                  <a:pt x="-1" y="16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6423120" y="1378080"/>
            <a:ext cx="1371600" cy="7596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8"/>
          <p:cNvSpPr/>
          <p:nvPr/>
        </p:nvSpPr>
        <p:spPr>
          <a:xfrm>
            <a:off x="7042320" y="1500120"/>
            <a:ext cx="1440" cy="293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9"/>
          <p:cNvSpPr/>
          <p:nvPr/>
        </p:nvSpPr>
        <p:spPr>
          <a:xfrm>
            <a:off x="7042320" y="1409760"/>
            <a:ext cx="1180800" cy="266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0"/>
          <p:cNvSpPr/>
          <p:nvPr/>
        </p:nvSpPr>
        <p:spPr>
          <a:xfrm>
            <a:off x="8131320" y="4070520"/>
            <a:ext cx="272880" cy="274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21"/>
          <p:cNvGraphicFramePr/>
          <p:nvPr/>
        </p:nvGraphicFramePr>
        <p:xfrm>
          <a:off x="7742160" y="4287960"/>
          <a:ext cx="266760" cy="2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2160" y="4287960"/>
                    <a:ext cx="2667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Group 22"/>
          <p:cNvGrpSpPr/>
          <p:nvPr/>
        </p:nvGrpSpPr>
        <p:grpSpPr>
          <a:xfrm>
            <a:off x="7329600" y="4522680"/>
            <a:ext cx="631800" cy="1233360"/>
            <a:chOff x="7329600" y="4522680"/>
            <a:chExt cx="631800" cy="1233360"/>
          </a:xfrm>
        </p:grpSpPr>
        <p:sp>
          <p:nvSpPr>
            <p:cNvPr id="361" name="Line 23"/>
            <p:cNvSpPr/>
            <p:nvPr/>
          </p:nvSpPr>
          <p:spPr>
            <a:xfrm>
              <a:off x="7885440" y="4522680"/>
              <a:ext cx="0" cy="1039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24"/>
                <p:cNvSpPr txBox="1"/>
                <p:nvPr/>
              </p:nvSpPr>
              <p:spPr>
                <a:xfrm>
                  <a:off x="7329600" y="5132160"/>
                  <a:ext cx="6318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Group 25"/>
          <p:cNvGrpSpPr/>
          <p:nvPr/>
        </p:nvGrpSpPr>
        <p:grpSpPr>
          <a:xfrm>
            <a:off x="7864560" y="5114880"/>
            <a:ext cx="325440" cy="558720"/>
            <a:chOff x="7864560" y="5114880"/>
            <a:chExt cx="325440" cy="558720"/>
          </a:xfrm>
        </p:grpSpPr>
        <p:sp>
          <p:nvSpPr>
            <p:cNvPr id="364" name="Freeform 26"/>
            <p:cNvSpPr/>
            <p:nvPr/>
          </p:nvSpPr>
          <p:spPr>
            <a:xfrm>
              <a:off x="7891560" y="5114880"/>
              <a:ext cx="183960" cy="50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6" h="32">
                  <a:moveTo>
                    <a:pt x="0" y="0"/>
                  </a:moveTo>
                  <a:lnTo>
                    <a:pt x="36" y="28"/>
                  </a:lnTo>
                  <a:lnTo>
                    <a:pt x="68" y="32"/>
                  </a:lnTo>
                  <a:lnTo>
                    <a:pt x="92" y="20"/>
                  </a:lnTo>
                  <a:lnTo>
                    <a:pt x="116" y="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27"/>
                <p:cNvSpPr txBox="1"/>
                <p:nvPr/>
              </p:nvSpPr>
              <p:spPr>
                <a:xfrm>
                  <a:off x="7864560" y="5216400"/>
                  <a:ext cx="325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Line 28"/>
          <p:cNvSpPr/>
          <p:nvPr/>
        </p:nvSpPr>
        <p:spPr>
          <a:xfrm>
            <a:off x="7765560" y="4138920"/>
            <a:ext cx="394560" cy="1347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9"/>
          <p:cNvSpPr/>
          <p:nvPr/>
        </p:nvSpPr>
        <p:spPr>
          <a:xfrm>
            <a:off x="7642080" y="3697200"/>
            <a:ext cx="223920" cy="744480"/>
          </a:xfrm>
          <a:custGeom>
            <a:avLst/>
            <a:gdLst>
              <a:gd name="textAreaLeft" fmla="*/ 0 w 223920"/>
              <a:gd name="textAreaRight" fmla="*/ 224280 w 22392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141" h="469">
                <a:moveTo>
                  <a:pt x="141" y="4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30"/>
              <p:cNvSpPr txBox="1"/>
              <p:nvPr/>
            </p:nvSpPr>
            <p:spPr>
              <a:xfrm>
                <a:off x="7164360" y="3213000"/>
                <a:ext cx="417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971640" y="18900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方法一：牛顿运动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7164360" y="4437000"/>
                <a:ext cx="36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1" name="Freeform 4"/>
          <p:cNvSpPr/>
          <p:nvPr/>
        </p:nvSpPr>
        <p:spPr>
          <a:xfrm>
            <a:off x="7026120" y="2593800"/>
            <a:ext cx="311400" cy="79560"/>
          </a:xfrm>
          <a:custGeom>
            <a:avLst/>
            <a:gdLst>
              <a:gd name="textAreaLeft" fmla="*/ 0 w 311400"/>
              <a:gd name="textAreaRight" fmla="*/ 311760 w 31140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42" h="59">
                <a:moveTo>
                  <a:pt x="0" y="26"/>
                </a:moveTo>
                <a:cubicBezTo>
                  <a:pt x="10" y="31"/>
                  <a:pt x="34" y="59"/>
                  <a:pt x="58" y="55"/>
                </a:cubicBezTo>
                <a:cubicBezTo>
                  <a:pt x="82" y="51"/>
                  <a:pt x="124" y="12"/>
                  <a:pt x="14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5"/>
              <p:cNvSpPr txBox="1"/>
              <p:nvPr/>
            </p:nvSpPr>
            <p:spPr>
              <a:xfrm>
                <a:off x="6727680" y="2292480"/>
                <a:ext cx="325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Oval 6"/>
          <p:cNvSpPr/>
          <p:nvPr/>
        </p:nvSpPr>
        <p:spPr>
          <a:xfrm>
            <a:off x="6950160" y="4437000"/>
            <a:ext cx="272880" cy="274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7"/>
              <p:cNvSpPr txBox="1"/>
              <p:nvPr/>
            </p:nvSpPr>
            <p:spPr>
              <a:xfrm>
                <a:off x="7931160" y="3025800"/>
                <a:ext cx="220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Line 8"/>
          <p:cNvSpPr/>
          <p:nvPr/>
        </p:nvSpPr>
        <p:spPr>
          <a:xfrm flipH="1">
            <a:off x="7414560" y="4446000"/>
            <a:ext cx="463680" cy="186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6346800" y="1233360"/>
            <a:ext cx="22860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0"/>
          <p:cNvSpPr/>
          <p:nvPr/>
        </p:nvSpPr>
        <p:spPr>
          <a:xfrm>
            <a:off x="7027920" y="2120760"/>
            <a:ext cx="338040" cy="111240"/>
          </a:xfrm>
          <a:custGeom>
            <a:avLst/>
            <a:gdLst>
              <a:gd name="textAreaLeft" fmla="*/ 0 w 338040"/>
              <a:gd name="textAreaRight" fmla="*/ 338400 w 3380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70">
                <a:moveTo>
                  <a:pt x="0" y="34"/>
                </a:moveTo>
                <a:cubicBezTo>
                  <a:pt x="32" y="53"/>
                  <a:pt x="68" y="70"/>
                  <a:pt x="103" y="64"/>
                </a:cubicBezTo>
                <a:cubicBezTo>
                  <a:pt x="138" y="58"/>
                  <a:pt x="190" y="13"/>
                  <a:pt x="21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1"/>
              <p:cNvSpPr txBox="1"/>
              <p:nvPr/>
            </p:nvSpPr>
            <p:spPr>
              <a:xfrm>
                <a:off x="7108920" y="1606680"/>
                <a:ext cx="384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9" name="Line 12"/>
          <p:cNvSpPr/>
          <p:nvPr/>
        </p:nvSpPr>
        <p:spPr>
          <a:xfrm>
            <a:off x="7041600" y="1483560"/>
            <a:ext cx="807480" cy="2968560"/>
          </a:xfrm>
          <a:prstGeom prst="line">
            <a:avLst/>
          </a:prstGeom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13"/>
          <p:cNvSpPr/>
          <p:nvPr/>
        </p:nvSpPr>
        <p:spPr>
          <a:xfrm flipV="1">
            <a:off x="7132680" y="4160160"/>
            <a:ext cx="1090440" cy="368280"/>
          </a:xfrm>
          <a:custGeom>
            <a:avLst/>
            <a:gdLst>
              <a:gd name="textAreaLeft" fmla="*/ 0 w 1090440"/>
              <a:gd name="textAreaRight" fmla="*/ 1090800 w 1090440"/>
              <a:gd name="textAreaTop" fmla="*/ -360 h 368280"/>
              <a:gd name="textAreaBottom" fmla="*/ 368280 h 368280"/>
            </a:gdLst>
            <a:ahLst/>
            <a:rect l="textAreaLeft" t="textAreaTop" r="textAreaRight" b="textAreaBottom"/>
            <a:pathLst>
              <a:path fill="none" w="24278" h="21600">
                <a:moveTo>
                  <a:pt x="-1" y="166"/>
                </a:moveTo>
                <a:cubicBezTo>
                  <a:pt x="888" y="55"/>
                  <a:pt x="1782" y="-1"/>
                  <a:pt x="2678" y="0"/>
                </a:cubicBezTo>
                <a:cubicBezTo>
                  <a:pt x="14607" y="0"/>
                  <a:pt x="24278" y="9670"/>
                  <a:pt x="24278" y="21600"/>
                </a:cubicBezTo>
              </a:path>
              <a:path stroke="0" w="24278" h="21600">
                <a:moveTo>
                  <a:pt x="-1" y="166"/>
                </a:moveTo>
                <a:cubicBezTo>
                  <a:pt x="888" y="55"/>
                  <a:pt x="1782" y="-1"/>
                  <a:pt x="2678" y="0"/>
                </a:cubicBezTo>
                <a:cubicBezTo>
                  <a:pt x="14607" y="0"/>
                  <a:pt x="24278" y="9670"/>
                  <a:pt x="24278" y="21600"/>
                </a:cubicBezTo>
                <a:lnTo>
                  <a:pt x="2678" y="21600"/>
                </a:lnTo>
                <a:lnTo>
                  <a:pt x="-1" y="16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6423120" y="1378080"/>
            <a:ext cx="1371600" cy="7596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5"/>
          <p:cNvSpPr/>
          <p:nvPr/>
        </p:nvSpPr>
        <p:spPr>
          <a:xfrm>
            <a:off x="7042320" y="1500120"/>
            <a:ext cx="1440" cy="293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7042320" y="1409760"/>
            <a:ext cx="1180800" cy="266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7"/>
          <p:cNvSpPr/>
          <p:nvPr/>
        </p:nvSpPr>
        <p:spPr>
          <a:xfrm>
            <a:off x="8131320" y="4070520"/>
            <a:ext cx="272880" cy="274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18"/>
          <p:cNvGraphicFramePr/>
          <p:nvPr/>
        </p:nvGraphicFramePr>
        <p:xfrm>
          <a:off x="7742160" y="4287960"/>
          <a:ext cx="266760" cy="2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2160" y="4287960"/>
                    <a:ext cx="2667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7" name="Group 19"/>
          <p:cNvGrpSpPr/>
          <p:nvPr/>
        </p:nvGrpSpPr>
        <p:grpSpPr>
          <a:xfrm>
            <a:off x="7329600" y="4522680"/>
            <a:ext cx="631800" cy="1233360"/>
            <a:chOff x="7329600" y="4522680"/>
            <a:chExt cx="631800" cy="1233360"/>
          </a:xfrm>
        </p:grpSpPr>
        <p:sp>
          <p:nvSpPr>
            <p:cNvPr id="388" name="Line 20"/>
            <p:cNvSpPr/>
            <p:nvPr/>
          </p:nvSpPr>
          <p:spPr>
            <a:xfrm>
              <a:off x="7885440" y="4522680"/>
              <a:ext cx="0" cy="1039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Object 21"/>
                <p:cNvSpPr txBox="1"/>
                <p:nvPr/>
              </p:nvSpPr>
              <p:spPr>
                <a:xfrm>
                  <a:off x="7329600" y="5132160"/>
                  <a:ext cx="6318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0" name="Group 22"/>
          <p:cNvGrpSpPr/>
          <p:nvPr/>
        </p:nvGrpSpPr>
        <p:grpSpPr>
          <a:xfrm>
            <a:off x="7864560" y="5114880"/>
            <a:ext cx="325440" cy="558720"/>
            <a:chOff x="7864560" y="5114880"/>
            <a:chExt cx="325440" cy="558720"/>
          </a:xfrm>
        </p:grpSpPr>
        <p:sp>
          <p:nvSpPr>
            <p:cNvPr id="391" name="Freeform 23"/>
            <p:cNvSpPr/>
            <p:nvPr/>
          </p:nvSpPr>
          <p:spPr>
            <a:xfrm>
              <a:off x="7891560" y="5114880"/>
              <a:ext cx="183960" cy="50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6" h="32">
                  <a:moveTo>
                    <a:pt x="0" y="0"/>
                  </a:moveTo>
                  <a:lnTo>
                    <a:pt x="36" y="28"/>
                  </a:lnTo>
                  <a:lnTo>
                    <a:pt x="68" y="32"/>
                  </a:lnTo>
                  <a:lnTo>
                    <a:pt x="92" y="20"/>
                  </a:lnTo>
                  <a:lnTo>
                    <a:pt x="116" y="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Object 24"/>
                <p:cNvSpPr txBox="1"/>
                <p:nvPr/>
              </p:nvSpPr>
              <p:spPr>
                <a:xfrm>
                  <a:off x="7864560" y="5216400"/>
                  <a:ext cx="325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3" name="Line 25"/>
          <p:cNvSpPr/>
          <p:nvPr/>
        </p:nvSpPr>
        <p:spPr>
          <a:xfrm>
            <a:off x="7765560" y="4138920"/>
            <a:ext cx="394560" cy="1347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6"/>
          <p:cNvSpPr/>
          <p:nvPr/>
        </p:nvSpPr>
        <p:spPr>
          <a:xfrm>
            <a:off x="7642080" y="3697200"/>
            <a:ext cx="223920" cy="744480"/>
          </a:xfrm>
          <a:custGeom>
            <a:avLst/>
            <a:gdLst>
              <a:gd name="textAreaLeft" fmla="*/ 0 w 223920"/>
              <a:gd name="textAreaRight" fmla="*/ 224280 w 22392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141" h="469">
                <a:moveTo>
                  <a:pt x="141" y="4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7"/>
              <p:cNvSpPr txBox="1"/>
              <p:nvPr/>
            </p:nvSpPr>
            <p:spPr>
              <a:xfrm>
                <a:off x="7164360" y="3213000"/>
                <a:ext cx="417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6" name="Line 28"/>
          <p:cNvSpPr/>
          <p:nvPr/>
        </p:nvSpPr>
        <p:spPr>
          <a:xfrm flipH="1" flipV="1">
            <a:off x="7710120" y="4076280"/>
            <a:ext cx="144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9"/>
              <p:cNvSpPr txBox="1"/>
              <p:nvPr/>
            </p:nvSpPr>
            <p:spPr>
              <a:xfrm>
                <a:off x="7380360" y="3860640"/>
                <a:ext cx="3477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0"/>
              <p:cNvSpPr txBox="1"/>
              <p:nvPr/>
            </p:nvSpPr>
            <p:spPr>
              <a:xfrm>
                <a:off x="1908000" y="981000"/>
                <a:ext cx="23893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AutoShape 31"/>
          <p:cNvSpPr/>
          <p:nvPr/>
        </p:nvSpPr>
        <p:spPr>
          <a:xfrm>
            <a:off x="539640" y="2492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2"/>
          <p:cNvSpPr/>
          <p:nvPr/>
        </p:nvSpPr>
        <p:spPr>
          <a:xfrm>
            <a:off x="395280" y="162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量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33"/>
              <p:cNvSpPr txBox="1"/>
              <p:nvPr/>
            </p:nvSpPr>
            <p:spPr>
              <a:xfrm>
                <a:off x="826920" y="2852640"/>
                <a:ext cx="44816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4"/>
              <p:cNvSpPr txBox="1"/>
              <p:nvPr/>
            </p:nvSpPr>
            <p:spPr>
              <a:xfrm>
                <a:off x="755640" y="1844640"/>
                <a:ext cx="534204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5"/>
              <p:cNvSpPr txBox="1"/>
              <p:nvPr/>
            </p:nvSpPr>
            <p:spPr>
              <a:xfrm>
                <a:off x="606600" y="3933720"/>
                <a:ext cx="4606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l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6"/>
              <p:cNvSpPr txBox="1"/>
              <p:nvPr/>
            </p:nvSpPr>
            <p:spPr>
              <a:xfrm>
                <a:off x="684360" y="5229360"/>
                <a:ext cx="4725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865080" y="1224000"/>
                <a:ext cx="49183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Text Box 3"/>
          <p:cNvSpPr/>
          <p:nvPr/>
        </p:nvSpPr>
        <p:spPr>
          <a:xfrm>
            <a:off x="250920" y="907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2124000" y="5445000"/>
                <a:ext cx="3888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5"/>
              <p:cNvSpPr txBox="1"/>
              <p:nvPr/>
            </p:nvSpPr>
            <p:spPr>
              <a:xfrm>
                <a:off x="1547640" y="1989000"/>
                <a:ext cx="36738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l</m:t>
                        </m:r>
                        <m:r>
                          <m:t xml:space="preserve">d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403280" y="3500280"/>
                <a:ext cx="29386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7"/>
              <p:cNvSpPr txBox="1"/>
              <p:nvPr/>
            </p:nvSpPr>
            <p:spPr>
              <a:xfrm>
                <a:off x="1476360" y="4221000"/>
                <a:ext cx="38163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11" name="Group 8"/>
          <p:cNvGrpSpPr/>
          <p:nvPr/>
        </p:nvGrpSpPr>
        <p:grpSpPr>
          <a:xfrm>
            <a:off x="6346800" y="1233360"/>
            <a:ext cx="2286000" cy="4572000"/>
            <a:chOff x="6346800" y="1233360"/>
            <a:chExt cx="2286000" cy="4572000"/>
          </a:xfrm>
        </p:grpSpPr>
        <mc:AlternateContent>
          <mc:Choice xmlns:a14="http://schemas.microsoft.com/office/drawing/2010/main" Requires="a14">
            <p:sp>
              <p:nvSpPr>
                <p:cNvPr id="412" name="Object 9"/>
                <p:cNvSpPr txBox="1"/>
                <p:nvPr/>
              </p:nvSpPr>
              <p:spPr>
                <a:xfrm>
                  <a:off x="7184880" y="4137120"/>
                  <a:ext cx="3524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3" name="Arc 10"/>
            <p:cNvSpPr/>
            <p:nvPr/>
          </p:nvSpPr>
          <p:spPr>
            <a:xfrm rot="6176400">
              <a:off x="6962400" y="2890440"/>
              <a:ext cx="228600" cy="489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fill="none" w="21587" h="18852">
                  <a:moveTo>
                    <a:pt x="10543" y="0"/>
                  </a:moveTo>
                  <a:cubicBezTo>
                    <a:pt x="17140" y="3689"/>
                    <a:pt x="21328" y="10558"/>
                    <a:pt x="21587" y="18111"/>
                  </a:cubicBezTo>
                </a:path>
                <a:path stroke="0" w="21587" h="18852">
                  <a:moveTo>
                    <a:pt x="10543" y="0"/>
                  </a:moveTo>
                  <a:cubicBezTo>
                    <a:pt x="17140" y="3689"/>
                    <a:pt x="21328" y="10558"/>
                    <a:pt x="21587" y="18111"/>
                  </a:cubicBezTo>
                  <a:lnTo>
                    <a:pt x="0" y="18852"/>
                  </a:lnTo>
                  <a:lnTo>
                    <a:pt x="10543" y="0"/>
                  </a:lnTo>
                  <a:close/>
                </a:path>
              </a:pathLst>
            </a:custGeom>
            <a:noFill/>
            <a:ln w="28440">
              <a:solidFill>
                <a:srgbClr val="cc00ff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rc 11"/>
            <p:cNvSpPr/>
            <p:nvPr/>
          </p:nvSpPr>
          <p:spPr>
            <a:xfrm flipH="1" rot="12583200">
              <a:off x="7447680" y="2688840"/>
              <a:ext cx="381240" cy="499680"/>
            </a:xfrm>
            <a:custGeom>
              <a:avLst/>
              <a:gdLst>
                <a:gd name="textAreaLeft" fmla="*/ -360 w 381240"/>
                <a:gd name="textAreaRight" fmla="*/ 381240 w 38124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fill="none" w="21417" h="19525">
                  <a:moveTo>
                    <a:pt x="9237" y="0"/>
                  </a:moveTo>
                  <a:cubicBezTo>
                    <a:pt x="15874" y="3140"/>
                    <a:pt x="20462" y="9436"/>
                    <a:pt x="21416" y="16717"/>
                  </a:cubicBezTo>
                </a:path>
                <a:path stroke="0" w="21417" h="19525">
                  <a:moveTo>
                    <a:pt x="9237" y="0"/>
                  </a:moveTo>
                  <a:cubicBezTo>
                    <a:pt x="15874" y="3140"/>
                    <a:pt x="20462" y="9436"/>
                    <a:pt x="21416" y="16717"/>
                  </a:cubicBezTo>
                  <a:lnTo>
                    <a:pt x="0" y="19525"/>
                  </a:lnTo>
                  <a:lnTo>
                    <a:pt x="9237" y="0"/>
                  </a:lnTo>
                  <a:close/>
                </a:path>
              </a:pathLst>
            </a:custGeom>
            <a:noFill/>
            <a:ln w="28440">
              <a:solidFill>
                <a:srgbClr val="cc00ff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12"/>
                <p:cNvSpPr txBox="1"/>
                <p:nvPr/>
              </p:nvSpPr>
              <p:spPr>
                <a:xfrm>
                  <a:off x="7413480" y="2620800"/>
                  <a:ext cx="45720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Freeform 13"/>
            <p:cNvSpPr/>
            <p:nvPr/>
          </p:nvSpPr>
          <p:spPr>
            <a:xfrm>
              <a:off x="7026120" y="2593800"/>
              <a:ext cx="311400" cy="7956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42" h="59">
                  <a:moveTo>
                    <a:pt x="0" y="26"/>
                  </a:moveTo>
                  <a:cubicBezTo>
                    <a:pt x="10" y="31"/>
                    <a:pt x="34" y="59"/>
                    <a:pt x="58" y="55"/>
                  </a:cubicBezTo>
                  <a:cubicBezTo>
                    <a:pt x="82" y="51"/>
                    <a:pt x="124" y="12"/>
                    <a:pt x="14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14"/>
                <p:cNvSpPr txBox="1"/>
                <p:nvPr/>
              </p:nvSpPr>
              <p:spPr>
                <a:xfrm>
                  <a:off x="6727680" y="2292480"/>
                  <a:ext cx="325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8" name="Line 15"/>
            <p:cNvSpPr/>
            <p:nvPr/>
          </p:nvSpPr>
          <p:spPr>
            <a:xfrm flipH="1">
              <a:off x="7042320" y="416088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6950160" y="4437000"/>
              <a:ext cx="272880" cy="27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Object 17"/>
                <p:cNvSpPr txBox="1"/>
                <p:nvPr/>
              </p:nvSpPr>
              <p:spPr>
                <a:xfrm>
                  <a:off x="7931160" y="3025800"/>
                  <a:ext cx="22068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1" name="Line 18"/>
            <p:cNvSpPr/>
            <p:nvPr/>
          </p:nvSpPr>
          <p:spPr>
            <a:xfrm flipH="1">
              <a:off x="7414560" y="4446000"/>
              <a:ext cx="463680" cy="186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9"/>
            <p:cNvSpPr/>
            <p:nvPr/>
          </p:nvSpPr>
          <p:spPr>
            <a:xfrm>
              <a:off x="6346800" y="1233360"/>
              <a:ext cx="2286000" cy="457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7027920" y="2120760"/>
              <a:ext cx="338040" cy="1112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3" h="70">
                  <a:moveTo>
                    <a:pt x="0" y="34"/>
                  </a:moveTo>
                  <a:cubicBezTo>
                    <a:pt x="32" y="53"/>
                    <a:pt x="68" y="70"/>
                    <a:pt x="103" y="64"/>
                  </a:cubicBezTo>
                  <a:cubicBezTo>
                    <a:pt x="138" y="58"/>
                    <a:pt x="190" y="13"/>
                    <a:pt x="21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Object 21"/>
                <p:cNvSpPr txBox="1"/>
                <p:nvPr/>
              </p:nvSpPr>
              <p:spPr>
                <a:xfrm>
                  <a:off x="7108920" y="1606680"/>
                  <a:ext cx="3841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Line 22"/>
            <p:cNvSpPr/>
            <p:nvPr/>
          </p:nvSpPr>
          <p:spPr>
            <a:xfrm>
              <a:off x="7041600" y="1483560"/>
              <a:ext cx="807480" cy="2968560"/>
            </a:xfrm>
            <a:prstGeom prst="line">
              <a:avLst/>
            </a:prstGeom>
            <a:ln w="1908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rc 23"/>
            <p:cNvSpPr/>
            <p:nvPr/>
          </p:nvSpPr>
          <p:spPr>
            <a:xfrm flipV="1">
              <a:off x="7132680" y="4160160"/>
              <a:ext cx="1090440" cy="368280"/>
            </a:xfrm>
            <a:custGeom>
              <a:avLst/>
              <a:gdLst>
                <a:gd name="textAreaLeft" fmla="*/ 0 w 1090440"/>
                <a:gd name="textAreaRight" fmla="*/ 1090800 w 1090440"/>
                <a:gd name="textAreaTop" fmla="*/ -36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fill="none" w="24278" h="21600">
                  <a:moveTo>
                    <a:pt x="-1" y="166"/>
                  </a:moveTo>
                  <a:cubicBezTo>
                    <a:pt x="888" y="55"/>
                    <a:pt x="1782" y="-1"/>
                    <a:pt x="2678" y="0"/>
                  </a:cubicBezTo>
                  <a:cubicBezTo>
                    <a:pt x="14607" y="0"/>
                    <a:pt x="24278" y="9670"/>
                    <a:pt x="24278" y="21600"/>
                  </a:cubicBezTo>
                </a:path>
                <a:path stroke="0" w="24278" h="21600">
                  <a:moveTo>
                    <a:pt x="-1" y="166"/>
                  </a:moveTo>
                  <a:cubicBezTo>
                    <a:pt x="888" y="55"/>
                    <a:pt x="1782" y="-1"/>
                    <a:pt x="2678" y="0"/>
                  </a:cubicBezTo>
                  <a:cubicBezTo>
                    <a:pt x="14607" y="0"/>
                    <a:pt x="24278" y="9670"/>
                    <a:pt x="24278" y="21600"/>
                  </a:cubicBezTo>
                  <a:lnTo>
                    <a:pt x="2678" y="21600"/>
                  </a:lnTo>
                  <a:lnTo>
                    <a:pt x="-1" y="1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4"/>
            <p:cNvSpPr/>
            <p:nvPr/>
          </p:nvSpPr>
          <p:spPr>
            <a:xfrm>
              <a:off x="6423120" y="1378080"/>
              <a:ext cx="1371600" cy="759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7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5"/>
            <p:cNvSpPr/>
            <p:nvPr/>
          </p:nvSpPr>
          <p:spPr>
            <a:xfrm>
              <a:off x="7042320" y="1500120"/>
              <a:ext cx="1440" cy="293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6"/>
            <p:cNvSpPr/>
            <p:nvPr/>
          </p:nvSpPr>
          <p:spPr>
            <a:xfrm>
              <a:off x="7042320" y="1409760"/>
              <a:ext cx="1180800" cy="266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27"/>
            <p:cNvSpPr/>
            <p:nvPr/>
          </p:nvSpPr>
          <p:spPr>
            <a:xfrm>
              <a:off x="8131320" y="4070520"/>
              <a:ext cx="272880" cy="274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8"/>
            <p:cNvSpPr/>
            <p:nvPr/>
          </p:nvSpPr>
          <p:spPr>
            <a:xfrm>
              <a:off x="7084080" y="1584000"/>
              <a:ext cx="440280" cy="2932920"/>
            </a:xfrm>
            <a:prstGeom prst="line">
              <a:avLst/>
            </a:prstGeom>
            <a:ln w="93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2" name="Object 29"/>
            <p:cNvGraphicFramePr/>
            <p:nvPr/>
          </p:nvGraphicFramePr>
          <p:xfrm>
            <a:off x="7742160" y="4287960"/>
            <a:ext cx="266760" cy="27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3" name="Object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2160" y="4287960"/>
                      <a:ext cx="26676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34" name="Group 30"/>
            <p:cNvGrpSpPr/>
            <p:nvPr/>
          </p:nvGrpSpPr>
          <p:grpSpPr>
            <a:xfrm>
              <a:off x="7329600" y="3670200"/>
              <a:ext cx="860400" cy="2085840"/>
              <a:chOff x="7329600" y="3670200"/>
              <a:chExt cx="860400" cy="2085840"/>
            </a:xfrm>
          </p:grpSpPr>
          <p:grpSp>
            <p:nvGrpSpPr>
              <p:cNvPr id="435" name="Group 31"/>
              <p:cNvGrpSpPr/>
              <p:nvPr/>
            </p:nvGrpSpPr>
            <p:grpSpPr>
              <a:xfrm>
                <a:off x="7329600" y="4522680"/>
                <a:ext cx="631800" cy="1233360"/>
                <a:chOff x="7329600" y="4522680"/>
                <a:chExt cx="631800" cy="1233360"/>
              </a:xfrm>
            </p:grpSpPr>
            <p:sp>
              <p:nvSpPr>
                <p:cNvPr id="436" name="Line 32"/>
                <p:cNvSpPr/>
                <p:nvPr/>
              </p:nvSpPr>
              <p:spPr>
                <a:xfrm>
                  <a:off x="7885440" y="4522680"/>
                  <a:ext cx="0" cy="10396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37" name="Object 33"/>
                    <p:cNvSpPr txBox="1"/>
                    <p:nvPr/>
                  </p:nvSpPr>
                  <p:spPr>
                    <a:xfrm>
                      <a:off x="7329600" y="5132160"/>
                      <a:ext cx="631800" cy="623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438" name="Group 34"/>
              <p:cNvGrpSpPr/>
              <p:nvPr/>
            </p:nvGrpSpPr>
            <p:grpSpPr>
              <a:xfrm>
                <a:off x="7864560" y="5114880"/>
                <a:ext cx="325440" cy="558720"/>
                <a:chOff x="7864560" y="5114880"/>
                <a:chExt cx="325440" cy="558720"/>
              </a:xfrm>
            </p:grpSpPr>
            <p:sp>
              <p:nvSpPr>
                <p:cNvPr id="439" name="Freeform 35"/>
                <p:cNvSpPr/>
                <p:nvPr/>
              </p:nvSpPr>
              <p:spPr>
                <a:xfrm>
                  <a:off x="7891560" y="5114880"/>
                  <a:ext cx="183960" cy="5076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6" h="32">
                      <a:moveTo>
                        <a:pt x="0" y="0"/>
                      </a:moveTo>
                      <a:lnTo>
                        <a:pt x="36" y="28"/>
                      </a:lnTo>
                      <a:lnTo>
                        <a:pt x="68" y="32"/>
                      </a:lnTo>
                      <a:lnTo>
                        <a:pt x="92" y="20"/>
                      </a:lnTo>
                      <a:lnTo>
                        <a:pt x="116" y="8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40" name="Object 36"/>
                    <p:cNvSpPr txBox="1"/>
                    <p:nvPr/>
                  </p:nvSpPr>
                  <p:spPr>
                    <a:xfrm>
                      <a:off x="7864560" y="5216400"/>
                      <a:ext cx="325440" cy="457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θ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441" name="Group 37"/>
              <p:cNvGrpSpPr/>
              <p:nvPr/>
            </p:nvGrpSpPr>
            <p:grpSpPr>
              <a:xfrm>
                <a:off x="7397640" y="4545000"/>
                <a:ext cx="487440" cy="569880"/>
                <a:chOff x="7397640" y="4545000"/>
                <a:chExt cx="487440" cy="569880"/>
              </a:xfrm>
            </p:grpSpPr>
            <p:sp>
              <p:nvSpPr>
                <p:cNvPr id="442" name="Freeform 38"/>
                <p:cNvSpPr/>
                <p:nvPr/>
              </p:nvSpPr>
              <p:spPr>
                <a:xfrm>
                  <a:off x="7661160" y="4545000"/>
                  <a:ext cx="223920" cy="206640"/>
                </a:xfrm>
                <a:custGeom>
                  <a:avLst/>
                  <a:gdLst>
                    <a:gd name="textAreaLeft" fmla="*/ 0 w 223920"/>
                    <a:gd name="textAreaRight" fmla="*/ 224280 w 22392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141" h="130">
                      <a:moveTo>
                        <a:pt x="0" y="0"/>
                      </a:moveTo>
                      <a:cubicBezTo>
                        <a:pt x="6" y="15"/>
                        <a:pt x="14" y="67"/>
                        <a:pt x="37" y="89"/>
                      </a:cubicBezTo>
                      <a:cubicBezTo>
                        <a:pt x="60" y="111"/>
                        <a:pt x="119" y="121"/>
                        <a:pt x="141" y="130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43" name="Object 39"/>
                    <p:cNvSpPr txBox="1"/>
                    <p:nvPr/>
                  </p:nvSpPr>
                  <p:spPr>
                    <a:xfrm>
                      <a:off x="7397640" y="4606920"/>
                      <a:ext cx="411120" cy="507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ϕ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44" name="Line 40"/>
              <p:cNvSpPr/>
              <p:nvPr/>
            </p:nvSpPr>
            <p:spPr>
              <a:xfrm>
                <a:off x="7765560" y="4138920"/>
                <a:ext cx="394560" cy="134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41"/>
              <p:cNvSpPr/>
              <p:nvPr/>
            </p:nvSpPr>
            <p:spPr>
              <a:xfrm>
                <a:off x="7642080" y="3697200"/>
                <a:ext cx="223920" cy="74448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744480"/>
                  <a:gd name="textAreaBottom" fmla="*/ 744840 h 744480"/>
                </a:gdLst>
                <a:ahLst/>
                <a:rect l="textAreaLeft" t="textAreaTop" r="textAreaRight" b="textAreaBottom"/>
                <a:pathLst>
                  <a:path w="141" h="469">
                    <a:moveTo>
                      <a:pt x="141" y="469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6" name="Object 42"/>
                  <p:cNvSpPr txBox="1"/>
                  <p:nvPr/>
                </p:nvSpPr>
                <p:spPr>
                  <a:xfrm>
                    <a:off x="7769160" y="3670200"/>
                    <a:ext cx="417600" cy="64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47" name="Group 43"/>
            <p:cNvGrpSpPr/>
            <p:nvPr/>
          </p:nvGrpSpPr>
          <p:grpSpPr>
            <a:xfrm>
              <a:off x="7656480" y="4522680"/>
              <a:ext cx="865080" cy="514440"/>
              <a:chOff x="7656480" y="4522680"/>
              <a:chExt cx="865080" cy="514440"/>
            </a:xfrm>
          </p:grpSpPr>
          <mc:AlternateContent>
            <mc:Choice xmlns:a14="http://schemas.microsoft.com/office/drawing/2010/main" Requires="a14">
              <p:sp>
                <p:nvSpPr>
                  <p:cNvPr id="448" name="Object 44"/>
                  <p:cNvSpPr txBox="1"/>
                  <p:nvPr/>
                </p:nvSpPr>
                <p:spPr>
                  <a:xfrm>
                    <a:off x="7983360" y="4546440"/>
                    <a:ext cx="538200" cy="4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9" name="Line 45"/>
              <p:cNvSpPr/>
              <p:nvPr/>
            </p:nvSpPr>
            <p:spPr>
              <a:xfrm>
                <a:off x="8113680" y="497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46"/>
              <p:cNvSpPr/>
              <p:nvPr/>
            </p:nvSpPr>
            <p:spPr>
              <a:xfrm>
                <a:off x="7656480" y="452268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Text Box 47"/>
          <p:cNvSpPr/>
          <p:nvPr/>
        </p:nvSpPr>
        <p:spPr>
          <a:xfrm>
            <a:off x="971640" y="189000"/>
            <a:ext cx="51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方法二：动能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7"/>
              <p:cNvSpPr txBox="1"/>
              <p:nvPr/>
            </p:nvSpPr>
            <p:spPr>
              <a:xfrm>
                <a:off x="6732720" y="5877000"/>
                <a:ext cx="18079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ldθ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684360" y="2228760"/>
                <a:ext cx="4392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4" name="Group 3"/>
          <p:cNvGrpSpPr/>
          <p:nvPr/>
        </p:nvGrpSpPr>
        <p:grpSpPr>
          <a:xfrm>
            <a:off x="549360" y="2879640"/>
            <a:ext cx="5751360" cy="1197000"/>
            <a:chOff x="549360" y="2879640"/>
            <a:chExt cx="5751360" cy="1197000"/>
          </a:xfrm>
        </p:grpSpPr>
        <p:sp>
          <p:nvSpPr>
            <p:cNvPr id="455" name="Text Box 4"/>
            <p:cNvSpPr/>
            <p:nvPr/>
          </p:nvSpPr>
          <p:spPr>
            <a:xfrm>
              <a:off x="549360" y="313704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由动能定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5"/>
                <p:cNvSpPr txBox="1"/>
                <p:nvPr/>
              </p:nvSpPr>
              <p:spPr>
                <a:xfrm>
                  <a:off x="2700360" y="2879640"/>
                  <a:ext cx="3600360" cy="11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m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m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7" name="Group 6"/>
          <p:cNvGrpSpPr/>
          <p:nvPr/>
        </p:nvGrpSpPr>
        <p:grpSpPr>
          <a:xfrm>
            <a:off x="568440" y="4206960"/>
            <a:ext cx="5225760" cy="1584360"/>
            <a:chOff x="568440" y="4206960"/>
            <a:chExt cx="5225760" cy="1584360"/>
          </a:xfrm>
        </p:grpSpPr>
        <p:sp>
          <p:nvSpPr>
            <p:cNvPr id="458" name="Rectangle 7"/>
            <p:cNvSpPr/>
            <p:nvPr/>
          </p:nvSpPr>
          <p:spPr>
            <a:xfrm>
              <a:off x="568440" y="42926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Object 8"/>
                <p:cNvSpPr txBox="1"/>
                <p:nvPr/>
              </p:nvSpPr>
              <p:spPr>
                <a:xfrm>
                  <a:off x="1258920" y="4206960"/>
                  <a:ext cx="453528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gl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0" name="Object 9"/>
                <p:cNvSpPr txBox="1"/>
                <p:nvPr/>
              </p:nvSpPr>
              <p:spPr>
                <a:xfrm>
                  <a:off x="1600200" y="5083200"/>
                  <a:ext cx="234324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3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1" name="Object 10"/>
              <p:cNvSpPr txBox="1"/>
              <p:nvPr/>
            </p:nvSpPr>
            <p:spPr>
              <a:xfrm>
                <a:off x="1379520" y="912960"/>
                <a:ext cx="22273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1"/>
              <p:cNvSpPr txBox="1"/>
              <p:nvPr/>
            </p:nvSpPr>
            <p:spPr>
              <a:xfrm>
                <a:off x="4211640" y="942840"/>
                <a:ext cx="1728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2"/>
              <p:cNvSpPr txBox="1"/>
              <p:nvPr/>
            </p:nvSpPr>
            <p:spPr>
              <a:xfrm>
                <a:off x="1403280" y="1465200"/>
                <a:ext cx="1728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3"/>
              <p:cNvSpPr txBox="1"/>
              <p:nvPr/>
            </p:nvSpPr>
            <p:spPr>
              <a:xfrm>
                <a:off x="4140360" y="1484280"/>
                <a:ext cx="14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65" name="Group 16"/>
          <p:cNvGrpSpPr/>
          <p:nvPr/>
        </p:nvGrpSpPr>
        <p:grpSpPr>
          <a:xfrm>
            <a:off x="6346800" y="1233360"/>
            <a:ext cx="2286000" cy="4572000"/>
            <a:chOff x="6346800" y="1233360"/>
            <a:chExt cx="2286000" cy="4572000"/>
          </a:xfrm>
        </p:grpSpPr>
        <mc:AlternateContent>
          <mc:Choice xmlns:a14="http://schemas.microsoft.com/office/drawing/2010/main" Requires="a14">
            <p:sp>
              <p:nvSpPr>
                <p:cNvPr id="466" name="Object 17"/>
                <p:cNvSpPr txBox="1"/>
                <p:nvPr/>
              </p:nvSpPr>
              <p:spPr>
                <a:xfrm>
                  <a:off x="7184880" y="4137120"/>
                  <a:ext cx="3524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Arc 18"/>
            <p:cNvSpPr/>
            <p:nvPr/>
          </p:nvSpPr>
          <p:spPr>
            <a:xfrm rot="6176400">
              <a:off x="6962400" y="2890440"/>
              <a:ext cx="228600" cy="489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fill="none" w="21587" h="18852">
                  <a:moveTo>
                    <a:pt x="10543" y="0"/>
                  </a:moveTo>
                  <a:cubicBezTo>
                    <a:pt x="17140" y="3689"/>
                    <a:pt x="21328" y="10558"/>
                    <a:pt x="21587" y="18111"/>
                  </a:cubicBezTo>
                </a:path>
                <a:path stroke="0" w="21587" h="18852">
                  <a:moveTo>
                    <a:pt x="10543" y="0"/>
                  </a:moveTo>
                  <a:cubicBezTo>
                    <a:pt x="17140" y="3689"/>
                    <a:pt x="21328" y="10558"/>
                    <a:pt x="21587" y="18111"/>
                  </a:cubicBezTo>
                  <a:lnTo>
                    <a:pt x="0" y="18852"/>
                  </a:lnTo>
                  <a:lnTo>
                    <a:pt x="10543" y="0"/>
                  </a:lnTo>
                  <a:close/>
                </a:path>
              </a:pathLst>
            </a:custGeom>
            <a:noFill/>
            <a:ln w="28440">
              <a:solidFill>
                <a:srgbClr val="cc00ff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19"/>
            <p:cNvSpPr/>
            <p:nvPr/>
          </p:nvSpPr>
          <p:spPr>
            <a:xfrm flipH="1" rot="12583200">
              <a:off x="7447680" y="2688840"/>
              <a:ext cx="381240" cy="499680"/>
            </a:xfrm>
            <a:custGeom>
              <a:avLst/>
              <a:gdLst>
                <a:gd name="textAreaLeft" fmla="*/ -360 w 381240"/>
                <a:gd name="textAreaRight" fmla="*/ 381240 w 38124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fill="none" w="21417" h="19525">
                  <a:moveTo>
                    <a:pt x="9237" y="0"/>
                  </a:moveTo>
                  <a:cubicBezTo>
                    <a:pt x="15874" y="3140"/>
                    <a:pt x="20462" y="9436"/>
                    <a:pt x="21416" y="16717"/>
                  </a:cubicBezTo>
                </a:path>
                <a:path stroke="0" w="21417" h="19525">
                  <a:moveTo>
                    <a:pt x="9237" y="0"/>
                  </a:moveTo>
                  <a:cubicBezTo>
                    <a:pt x="15874" y="3140"/>
                    <a:pt x="20462" y="9436"/>
                    <a:pt x="21416" y="16717"/>
                  </a:cubicBezTo>
                  <a:lnTo>
                    <a:pt x="0" y="19525"/>
                  </a:lnTo>
                  <a:lnTo>
                    <a:pt x="9237" y="0"/>
                  </a:lnTo>
                  <a:close/>
                </a:path>
              </a:pathLst>
            </a:custGeom>
            <a:noFill/>
            <a:ln w="28440">
              <a:solidFill>
                <a:srgbClr val="cc00ff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Object 20"/>
                <p:cNvSpPr txBox="1"/>
                <p:nvPr/>
              </p:nvSpPr>
              <p:spPr>
                <a:xfrm>
                  <a:off x="7413480" y="2620800"/>
                  <a:ext cx="45720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0" name="Freeform 21"/>
            <p:cNvSpPr/>
            <p:nvPr/>
          </p:nvSpPr>
          <p:spPr>
            <a:xfrm>
              <a:off x="7026120" y="2593800"/>
              <a:ext cx="311400" cy="7956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42" h="59">
                  <a:moveTo>
                    <a:pt x="0" y="26"/>
                  </a:moveTo>
                  <a:cubicBezTo>
                    <a:pt x="10" y="31"/>
                    <a:pt x="34" y="59"/>
                    <a:pt x="58" y="55"/>
                  </a:cubicBezTo>
                  <a:cubicBezTo>
                    <a:pt x="82" y="51"/>
                    <a:pt x="124" y="12"/>
                    <a:pt x="14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Object 22"/>
                <p:cNvSpPr txBox="1"/>
                <p:nvPr/>
              </p:nvSpPr>
              <p:spPr>
                <a:xfrm>
                  <a:off x="6727680" y="2292480"/>
                  <a:ext cx="325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2" name="Line 23"/>
            <p:cNvSpPr/>
            <p:nvPr/>
          </p:nvSpPr>
          <p:spPr>
            <a:xfrm flipH="1">
              <a:off x="7042320" y="416088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4"/>
            <p:cNvSpPr/>
            <p:nvPr/>
          </p:nvSpPr>
          <p:spPr>
            <a:xfrm>
              <a:off x="6950160" y="4437000"/>
              <a:ext cx="272880" cy="27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25"/>
                <p:cNvSpPr txBox="1"/>
                <p:nvPr/>
              </p:nvSpPr>
              <p:spPr>
                <a:xfrm>
                  <a:off x="7931160" y="3025800"/>
                  <a:ext cx="22068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5" name="Line 26"/>
            <p:cNvSpPr/>
            <p:nvPr/>
          </p:nvSpPr>
          <p:spPr>
            <a:xfrm flipH="1">
              <a:off x="7414560" y="4446000"/>
              <a:ext cx="463680" cy="186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7"/>
            <p:cNvSpPr/>
            <p:nvPr/>
          </p:nvSpPr>
          <p:spPr>
            <a:xfrm>
              <a:off x="6346800" y="1233360"/>
              <a:ext cx="2286000" cy="457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8"/>
            <p:cNvSpPr/>
            <p:nvPr/>
          </p:nvSpPr>
          <p:spPr>
            <a:xfrm>
              <a:off x="7027920" y="2120760"/>
              <a:ext cx="338040" cy="1112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3" h="70">
                  <a:moveTo>
                    <a:pt x="0" y="34"/>
                  </a:moveTo>
                  <a:cubicBezTo>
                    <a:pt x="32" y="53"/>
                    <a:pt x="68" y="70"/>
                    <a:pt x="103" y="64"/>
                  </a:cubicBezTo>
                  <a:cubicBezTo>
                    <a:pt x="138" y="58"/>
                    <a:pt x="190" y="13"/>
                    <a:pt x="21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Object 29"/>
                <p:cNvSpPr txBox="1"/>
                <p:nvPr/>
              </p:nvSpPr>
              <p:spPr>
                <a:xfrm>
                  <a:off x="7108920" y="1606680"/>
                  <a:ext cx="3841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9" name="Line 30"/>
            <p:cNvSpPr/>
            <p:nvPr/>
          </p:nvSpPr>
          <p:spPr>
            <a:xfrm>
              <a:off x="7041600" y="1483560"/>
              <a:ext cx="807480" cy="2968560"/>
            </a:xfrm>
            <a:prstGeom prst="line">
              <a:avLst/>
            </a:prstGeom>
            <a:ln w="1908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rc 31"/>
            <p:cNvSpPr/>
            <p:nvPr/>
          </p:nvSpPr>
          <p:spPr>
            <a:xfrm flipV="1">
              <a:off x="7132680" y="4160160"/>
              <a:ext cx="1090440" cy="368280"/>
            </a:xfrm>
            <a:custGeom>
              <a:avLst/>
              <a:gdLst>
                <a:gd name="textAreaLeft" fmla="*/ 0 w 1090440"/>
                <a:gd name="textAreaRight" fmla="*/ 1090800 w 1090440"/>
                <a:gd name="textAreaTop" fmla="*/ -36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fill="none" w="24278" h="21600">
                  <a:moveTo>
                    <a:pt x="-1" y="166"/>
                  </a:moveTo>
                  <a:cubicBezTo>
                    <a:pt x="888" y="55"/>
                    <a:pt x="1782" y="-1"/>
                    <a:pt x="2678" y="0"/>
                  </a:cubicBezTo>
                  <a:cubicBezTo>
                    <a:pt x="14607" y="0"/>
                    <a:pt x="24278" y="9670"/>
                    <a:pt x="24278" y="21600"/>
                  </a:cubicBezTo>
                </a:path>
                <a:path stroke="0" w="24278" h="21600">
                  <a:moveTo>
                    <a:pt x="-1" y="166"/>
                  </a:moveTo>
                  <a:cubicBezTo>
                    <a:pt x="888" y="55"/>
                    <a:pt x="1782" y="-1"/>
                    <a:pt x="2678" y="0"/>
                  </a:cubicBezTo>
                  <a:cubicBezTo>
                    <a:pt x="14607" y="0"/>
                    <a:pt x="24278" y="9670"/>
                    <a:pt x="24278" y="21600"/>
                  </a:cubicBezTo>
                  <a:lnTo>
                    <a:pt x="2678" y="21600"/>
                  </a:lnTo>
                  <a:lnTo>
                    <a:pt x="-1" y="1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2"/>
            <p:cNvSpPr/>
            <p:nvPr/>
          </p:nvSpPr>
          <p:spPr>
            <a:xfrm>
              <a:off x="6423120" y="1378080"/>
              <a:ext cx="1371600" cy="759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7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33"/>
            <p:cNvSpPr/>
            <p:nvPr/>
          </p:nvSpPr>
          <p:spPr>
            <a:xfrm>
              <a:off x="7042320" y="1500120"/>
              <a:ext cx="1440" cy="293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34"/>
            <p:cNvSpPr/>
            <p:nvPr/>
          </p:nvSpPr>
          <p:spPr>
            <a:xfrm>
              <a:off x="7042320" y="1409760"/>
              <a:ext cx="1180800" cy="266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35"/>
            <p:cNvSpPr/>
            <p:nvPr/>
          </p:nvSpPr>
          <p:spPr>
            <a:xfrm>
              <a:off x="8131320" y="4070520"/>
              <a:ext cx="272880" cy="274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36"/>
            <p:cNvSpPr/>
            <p:nvPr/>
          </p:nvSpPr>
          <p:spPr>
            <a:xfrm>
              <a:off x="7084080" y="1584000"/>
              <a:ext cx="440280" cy="2932920"/>
            </a:xfrm>
            <a:prstGeom prst="line">
              <a:avLst/>
            </a:prstGeom>
            <a:ln w="93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6" name="Object 37"/>
            <p:cNvGraphicFramePr/>
            <p:nvPr/>
          </p:nvGraphicFramePr>
          <p:xfrm>
            <a:off x="7742160" y="4287960"/>
            <a:ext cx="266760" cy="27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7" name="Object 3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2160" y="4287960"/>
                      <a:ext cx="26676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8" name="Group 38"/>
            <p:cNvGrpSpPr/>
            <p:nvPr/>
          </p:nvGrpSpPr>
          <p:grpSpPr>
            <a:xfrm>
              <a:off x="7329600" y="3670200"/>
              <a:ext cx="860400" cy="2085840"/>
              <a:chOff x="7329600" y="3670200"/>
              <a:chExt cx="860400" cy="2085840"/>
            </a:xfrm>
          </p:grpSpPr>
          <p:grpSp>
            <p:nvGrpSpPr>
              <p:cNvPr id="489" name="Group 39"/>
              <p:cNvGrpSpPr/>
              <p:nvPr/>
            </p:nvGrpSpPr>
            <p:grpSpPr>
              <a:xfrm>
                <a:off x="7329600" y="4522680"/>
                <a:ext cx="631800" cy="1233360"/>
                <a:chOff x="7329600" y="4522680"/>
                <a:chExt cx="631800" cy="1233360"/>
              </a:xfrm>
            </p:grpSpPr>
            <p:sp>
              <p:nvSpPr>
                <p:cNvPr id="490" name="Line 40"/>
                <p:cNvSpPr/>
                <p:nvPr/>
              </p:nvSpPr>
              <p:spPr>
                <a:xfrm>
                  <a:off x="7885440" y="4522680"/>
                  <a:ext cx="0" cy="10396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91" name="Object 41"/>
                    <p:cNvSpPr txBox="1"/>
                    <p:nvPr/>
                  </p:nvSpPr>
                  <p:spPr>
                    <a:xfrm>
                      <a:off x="7329600" y="5132160"/>
                      <a:ext cx="631800" cy="623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492" name="Group 42"/>
              <p:cNvGrpSpPr/>
              <p:nvPr/>
            </p:nvGrpSpPr>
            <p:grpSpPr>
              <a:xfrm>
                <a:off x="7864560" y="5114880"/>
                <a:ext cx="325440" cy="558720"/>
                <a:chOff x="7864560" y="5114880"/>
                <a:chExt cx="325440" cy="558720"/>
              </a:xfrm>
            </p:grpSpPr>
            <p:sp>
              <p:nvSpPr>
                <p:cNvPr id="493" name="Freeform 43"/>
                <p:cNvSpPr/>
                <p:nvPr/>
              </p:nvSpPr>
              <p:spPr>
                <a:xfrm>
                  <a:off x="7891560" y="5114880"/>
                  <a:ext cx="183960" cy="5076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6" h="32">
                      <a:moveTo>
                        <a:pt x="0" y="0"/>
                      </a:moveTo>
                      <a:lnTo>
                        <a:pt x="36" y="28"/>
                      </a:lnTo>
                      <a:lnTo>
                        <a:pt x="68" y="32"/>
                      </a:lnTo>
                      <a:lnTo>
                        <a:pt x="92" y="20"/>
                      </a:lnTo>
                      <a:lnTo>
                        <a:pt x="116" y="8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94" name="Object 44"/>
                    <p:cNvSpPr txBox="1"/>
                    <p:nvPr/>
                  </p:nvSpPr>
                  <p:spPr>
                    <a:xfrm>
                      <a:off x="7864560" y="5216400"/>
                      <a:ext cx="325440" cy="457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θ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495" name="Group 45"/>
              <p:cNvGrpSpPr/>
              <p:nvPr/>
            </p:nvGrpSpPr>
            <p:grpSpPr>
              <a:xfrm>
                <a:off x="7397640" y="4545000"/>
                <a:ext cx="487440" cy="569880"/>
                <a:chOff x="7397640" y="4545000"/>
                <a:chExt cx="487440" cy="569880"/>
              </a:xfrm>
            </p:grpSpPr>
            <p:sp>
              <p:nvSpPr>
                <p:cNvPr id="496" name="Freeform 46"/>
                <p:cNvSpPr/>
                <p:nvPr/>
              </p:nvSpPr>
              <p:spPr>
                <a:xfrm>
                  <a:off x="7661160" y="4545000"/>
                  <a:ext cx="223920" cy="206640"/>
                </a:xfrm>
                <a:custGeom>
                  <a:avLst/>
                  <a:gdLst>
                    <a:gd name="textAreaLeft" fmla="*/ 0 w 223920"/>
                    <a:gd name="textAreaRight" fmla="*/ 224280 w 22392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141" h="130">
                      <a:moveTo>
                        <a:pt x="0" y="0"/>
                      </a:moveTo>
                      <a:cubicBezTo>
                        <a:pt x="6" y="15"/>
                        <a:pt x="14" y="67"/>
                        <a:pt x="37" y="89"/>
                      </a:cubicBezTo>
                      <a:cubicBezTo>
                        <a:pt x="60" y="111"/>
                        <a:pt x="119" y="121"/>
                        <a:pt x="141" y="130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97" name="Object 47"/>
                    <p:cNvSpPr txBox="1"/>
                    <p:nvPr/>
                  </p:nvSpPr>
                  <p:spPr>
                    <a:xfrm>
                      <a:off x="7397640" y="4606920"/>
                      <a:ext cx="411120" cy="507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ϕ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98" name="Line 48"/>
              <p:cNvSpPr/>
              <p:nvPr/>
            </p:nvSpPr>
            <p:spPr>
              <a:xfrm>
                <a:off x="7765560" y="4138920"/>
                <a:ext cx="394560" cy="134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49"/>
              <p:cNvSpPr/>
              <p:nvPr/>
            </p:nvSpPr>
            <p:spPr>
              <a:xfrm>
                <a:off x="7642080" y="3697200"/>
                <a:ext cx="223920" cy="74448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744480"/>
                  <a:gd name="textAreaBottom" fmla="*/ 744840 h 744480"/>
                </a:gdLst>
                <a:ahLst/>
                <a:rect l="textAreaLeft" t="textAreaTop" r="textAreaRight" b="textAreaBottom"/>
                <a:pathLst>
                  <a:path w="141" h="469">
                    <a:moveTo>
                      <a:pt x="141" y="469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00" name="Object 50"/>
                  <p:cNvSpPr txBox="1"/>
                  <p:nvPr/>
                </p:nvSpPr>
                <p:spPr>
                  <a:xfrm>
                    <a:off x="7769160" y="3670200"/>
                    <a:ext cx="417600" cy="64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01" name="Group 51"/>
            <p:cNvGrpSpPr/>
            <p:nvPr/>
          </p:nvGrpSpPr>
          <p:grpSpPr>
            <a:xfrm>
              <a:off x="7656480" y="4522680"/>
              <a:ext cx="838080" cy="533520"/>
              <a:chOff x="7656480" y="4522680"/>
              <a:chExt cx="838080" cy="533520"/>
            </a:xfrm>
          </p:grpSpPr>
          <mc:AlternateContent>
            <mc:Choice xmlns:a14="http://schemas.microsoft.com/office/drawing/2010/main" Requires="a14">
              <p:sp>
                <p:nvSpPr>
                  <p:cNvPr id="502" name="Object 52"/>
                  <p:cNvSpPr txBox="1"/>
                  <p:nvPr/>
                </p:nvSpPr>
                <p:spPr>
                  <a:xfrm>
                    <a:off x="8010360" y="4529160"/>
                    <a:ext cx="484200" cy="52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3" name="Line 53"/>
              <p:cNvSpPr/>
              <p:nvPr/>
            </p:nvSpPr>
            <p:spPr>
              <a:xfrm>
                <a:off x="8113680" y="497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54"/>
              <p:cNvSpPr/>
              <p:nvPr/>
            </p:nvSpPr>
            <p:spPr>
              <a:xfrm>
                <a:off x="7656480" y="452268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0"/>
          <p:cNvGrpSpPr/>
          <p:nvPr/>
        </p:nvGrpSpPr>
        <p:grpSpPr>
          <a:xfrm>
            <a:off x="914400" y="2273400"/>
            <a:ext cx="6934320" cy="2666880"/>
            <a:chOff x="914400" y="2273400"/>
            <a:chExt cx="6934320" cy="2666880"/>
          </a:xfrm>
        </p:grpSpPr>
        <p:sp>
          <p:nvSpPr>
            <p:cNvPr id="87" name="Rectangle 11"/>
            <p:cNvSpPr/>
            <p:nvPr/>
          </p:nvSpPr>
          <p:spPr>
            <a:xfrm>
              <a:off x="914400" y="2273400"/>
              <a:ext cx="6934320" cy="26668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2"/>
            <p:cNvGrpSpPr/>
            <p:nvPr/>
          </p:nvGrpSpPr>
          <p:grpSpPr>
            <a:xfrm>
              <a:off x="1295280" y="2577960"/>
              <a:ext cx="5451480" cy="1599480"/>
              <a:chOff x="1295280" y="2577960"/>
              <a:chExt cx="5451480" cy="1599480"/>
            </a:xfrm>
          </p:grpSpPr>
          <p:sp>
            <p:nvSpPr>
              <p:cNvPr id="89" name="Freeform 13"/>
              <p:cNvSpPr/>
              <p:nvPr/>
            </p:nvSpPr>
            <p:spPr>
              <a:xfrm>
                <a:off x="1295280" y="3911040"/>
                <a:ext cx="5451480" cy="266400"/>
              </a:xfrm>
              <a:custGeom>
                <a:avLst/>
                <a:gdLst>
                  <a:gd name="textAreaLeft" fmla="*/ 0 w 5451480"/>
                  <a:gd name="textAreaRight" fmla="*/ 5451840 w 54514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336" h="192">
                    <a:moveTo>
                      <a:pt x="0" y="192"/>
                    </a:moveTo>
                    <a:lnTo>
                      <a:pt x="0" y="0"/>
                    </a:lnTo>
                    <a:lnTo>
                      <a:pt x="336" y="0"/>
                    </a:lnTo>
                    <a:lnTo>
                      <a:pt x="336" y="192"/>
                    </a:lnTo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14"/>
              <p:cNvGrpSpPr/>
              <p:nvPr/>
            </p:nvGrpSpPr>
            <p:grpSpPr>
              <a:xfrm>
                <a:off x="1585800" y="2577960"/>
                <a:ext cx="2324160" cy="1315440"/>
                <a:chOff x="1585800" y="2577960"/>
                <a:chExt cx="2324160" cy="13154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91" name="Object 7"/>
                    <p:cNvSpPr txBox="1"/>
                    <p:nvPr/>
                  </p:nvSpPr>
                  <p:spPr>
                    <a:xfrm>
                      <a:off x="3620880" y="2577960"/>
                      <a:ext cx="289080" cy="329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2" name="Freeform 16"/>
                <p:cNvSpPr/>
                <p:nvPr/>
              </p:nvSpPr>
              <p:spPr>
                <a:xfrm>
                  <a:off x="1585800" y="3177720"/>
                  <a:ext cx="930240" cy="71568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715680"/>
                    <a:gd name="textAreaBottom" fmla="*/ 716040 h 715680"/>
                  </a:gdLst>
                  <a:ahLst/>
                  <a:rect l="textAreaLeft" t="textAreaTop" r="textAreaRight" b="textAreaBottom"/>
                  <a:pathLst>
                    <a:path w="336" h="192">
                      <a:moveTo>
                        <a:pt x="0" y="192"/>
                      </a:moveTo>
                      <a:lnTo>
                        <a:pt x="0" y="0"/>
                      </a:lnTo>
                      <a:lnTo>
                        <a:pt x="336" y="0"/>
                      </a:lnTo>
                      <a:lnTo>
                        <a:pt x="336" y="192"/>
                      </a:lnTo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7"/>
                <p:cNvSpPr/>
                <p:nvPr/>
              </p:nvSpPr>
              <p:spPr>
                <a:xfrm>
                  <a:off x="2427120" y="3214080"/>
                  <a:ext cx="11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18"/>
                <p:cNvSpPr/>
                <p:nvPr/>
              </p:nvSpPr>
              <p:spPr>
                <a:xfrm flipV="1">
                  <a:off x="2435040" y="2648880"/>
                  <a:ext cx="1116000" cy="510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19"/>
                <p:cNvSpPr/>
                <p:nvPr/>
              </p:nvSpPr>
              <p:spPr>
                <a:xfrm>
                  <a:off x="2908080" y="3006360"/>
                  <a:ext cx="81000" cy="20448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48" h="96">
                      <a:moveTo>
                        <a:pt x="0" y="0"/>
                      </a:moveTo>
                      <a:cubicBezTo>
                        <a:pt x="24" y="16"/>
                        <a:pt x="48" y="32"/>
                        <a:pt x="48" y="48"/>
                      </a:cubicBezTo>
                      <a:cubicBezTo>
                        <a:pt x="48" y="64"/>
                        <a:pt x="24" y="80"/>
                        <a:pt x="0" y="9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20"/>
                <p:cNvSpPr/>
                <p:nvPr/>
              </p:nvSpPr>
              <p:spPr>
                <a:xfrm>
                  <a:off x="3041640" y="2844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7" name="Group 21"/>
          <p:cNvGrpSpPr/>
          <p:nvPr/>
        </p:nvGrpSpPr>
        <p:grpSpPr>
          <a:xfrm>
            <a:off x="901800" y="2260440"/>
            <a:ext cx="7010280" cy="2667240"/>
            <a:chOff x="901800" y="2260440"/>
            <a:chExt cx="7010280" cy="2667240"/>
          </a:xfrm>
        </p:grpSpPr>
        <p:sp>
          <p:nvSpPr>
            <p:cNvPr id="98" name="Rectangle 22"/>
            <p:cNvSpPr/>
            <p:nvPr/>
          </p:nvSpPr>
          <p:spPr>
            <a:xfrm>
              <a:off x="901800" y="2260440"/>
              <a:ext cx="7010280" cy="266724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3"/>
            <p:cNvGrpSpPr/>
            <p:nvPr/>
          </p:nvGrpSpPr>
          <p:grpSpPr>
            <a:xfrm>
              <a:off x="1282680" y="2603520"/>
              <a:ext cx="6463080" cy="1562040"/>
              <a:chOff x="1282680" y="2603520"/>
              <a:chExt cx="6463080" cy="1562040"/>
            </a:xfrm>
          </p:grpSpPr>
          <p:sp>
            <p:nvSpPr>
              <p:cNvPr id="100" name="Freeform 24"/>
              <p:cNvSpPr/>
              <p:nvPr/>
            </p:nvSpPr>
            <p:spPr>
              <a:xfrm>
                <a:off x="1282680" y="3898800"/>
                <a:ext cx="5450760" cy="266760"/>
              </a:xfrm>
              <a:custGeom>
                <a:avLst/>
                <a:gdLst>
                  <a:gd name="textAreaLeft" fmla="*/ 0 w 5450760"/>
                  <a:gd name="textAreaRight" fmla="*/ 5451120 w 54507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36" h="192">
                    <a:moveTo>
                      <a:pt x="0" y="192"/>
                    </a:moveTo>
                    <a:lnTo>
                      <a:pt x="0" y="0"/>
                    </a:lnTo>
                    <a:lnTo>
                      <a:pt x="336" y="0"/>
                    </a:lnTo>
                    <a:lnTo>
                      <a:pt x="336" y="192"/>
                    </a:lnTo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25"/>
              <p:cNvGrpSpPr/>
              <p:nvPr/>
            </p:nvGrpSpPr>
            <p:grpSpPr>
              <a:xfrm>
                <a:off x="5422320" y="2603520"/>
                <a:ext cx="2323440" cy="1316160"/>
                <a:chOff x="5422320" y="2603520"/>
                <a:chExt cx="2323440" cy="13161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02" name="Object 6"/>
                    <p:cNvSpPr txBox="1"/>
                    <p:nvPr/>
                  </p:nvSpPr>
                  <p:spPr>
                    <a:xfrm>
                      <a:off x="7457040" y="2603520"/>
                      <a:ext cx="28872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3" name="Freeform 27"/>
                <p:cNvSpPr/>
                <p:nvPr/>
              </p:nvSpPr>
              <p:spPr>
                <a:xfrm>
                  <a:off x="5422320" y="3203640"/>
                  <a:ext cx="929880" cy="716040"/>
                </a:xfrm>
                <a:custGeom>
                  <a:avLst/>
                  <a:gdLst>
                    <a:gd name="textAreaLeft" fmla="*/ 0 w 929880"/>
                    <a:gd name="textAreaRight" fmla="*/ 930240 w 929880"/>
                    <a:gd name="textAreaTop" fmla="*/ 0 h 716040"/>
                    <a:gd name="textAreaBottom" fmla="*/ 716400 h 716040"/>
                  </a:gdLst>
                  <a:ahLst/>
                  <a:rect l="textAreaLeft" t="textAreaTop" r="textAreaRight" b="textAreaBottom"/>
                  <a:pathLst>
                    <a:path w="336" h="192">
                      <a:moveTo>
                        <a:pt x="0" y="192"/>
                      </a:moveTo>
                      <a:lnTo>
                        <a:pt x="0" y="0"/>
                      </a:lnTo>
                      <a:lnTo>
                        <a:pt x="336" y="0"/>
                      </a:lnTo>
                      <a:lnTo>
                        <a:pt x="336" y="192"/>
                      </a:lnTo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8"/>
                <p:cNvSpPr/>
                <p:nvPr/>
              </p:nvSpPr>
              <p:spPr>
                <a:xfrm>
                  <a:off x="6263280" y="3240000"/>
                  <a:ext cx="11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29"/>
                <p:cNvSpPr/>
                <p:nvPr/>
              </p:nvSpPr>
              <p:spPr>
                <a:xfrm flipV="1">
                  <a:off x="6271200" y="2675160"/>
                  <a:ext cx="1115640" cy="511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30"/>
                <p:cNvSpPr/>
                <p:nvPr/>
              </p:nvSpPr>
              <p:spPr>
                <a:xfrm>
                  <a:off x="6744240" y="3032280"/>
                  <a:ext cx="80640" cy="2048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48" h="96">
                      <a:moveTo>
                        <a:pt x="0" y="0"/>
                      </a:moveTo>
                      <a:cubicBezTo>
                        <a:pt x="24" y="16"/>
                        <a:pt x="48" y="32"/>
                        <a:pt x="48" y="48"/>
                      </a:cubicBezTo>
                      <a:cubicBezTo>
                        <a:pt x="48" y="64"/>
                        <a:pt x="24" y="80"/>
                        <a:pt x="0" y="9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31"/>
                <p:cNvSpPr/>
                <p:nvPr/>
              </p:nvSpPr>
              <p:spPr>
                <a:xfrm>
                  <a:off x="6877800" y="287028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8" name="Group 32"/>
          <p:cNvGrpSpPr/>
          <p:nvPr/>
        </p:nvGrpSpPr>
        <p:grpSpPr>
          <a:xfrm>
            <a:off x="1587600" y="2577960"/>
            <a:ext cx="3822480" cy="1984320"/>
            <a:chOff x="1587600" y="2577960"/>
            <a:chExt cx="3822480" cy="1984320"/>
          </a:xfrm>
        </p:grpSpPr>
        <p:grpSp>
          <p:nvGrpSpPr>
            <p:cNvPr id="109" name="Group 33"/>
            <p:cNvGrpSpPr/>
            <p:nvPr/>
          </p:nvGrpSpPr>
          <p:grpSpPr>
            <a:xfrm>
              <a:off x="1587600" y="2577960"/>
              <a:ext cx="2323440" cy="1315440"/>
              <a:chOff x="1587600" y="2577960"/>
              <a:chExt cx="2323440" cy="1315440"/>
            </a:xfrm>
          </p:grpSpPr>
          <mc:AlternateContent>
            <mc:Choice xmlns:a14="http://schemas.microsoft.com/office/drawing/2010/main" Requires="a14">
              <p:sp>
                <p:nvSpPr>
                  <p:cNvPr id="110" name="Object 5"/>
                  <p:cNvSpPr txBox="1"/>
                  <p:nvPr/>
                </p:nvSpPr>
                <p:spPr>
                  <a:xfrm>
                    <a:off x="3622320" y="2577960"/>
                    <a:ext cx="288720" cy="32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1" name="Freeform 35"/>
              <p:cNvSpPr/>
              <p:nvPr/>
            </p:nvSpPr>
            <p:spPr>
              <a:xfrm>
                <a:off x="1587600" y="3177720"/>
                <a:ext cx="929880" cy="715680"/>
              </a:xfrm>
              <a:custGeom>
                <a:avLst/>
                <a:gdLst>
                  <a:gd name="textAreaLeft" fmla="*/ 0 w 929880"/>
                  <a:gd name="textAreaRight" fmla="*/ 930240 w 929880"/>
                  <a:gd name="textAreaTop" fmla="*/ 0 h 715680"/>
                  <a:gd name="textAreaBottom" fmla="*/ 716040 h 715680"/>
                </a:gdLst>
                <a:ahLst/>
                <a:rect l="textAreaLeft" t="textAreaTop" r="textAreaRight" b="textAreaBottom"/>
                <a:pathLst>
                  <a:path w="336" h="192">
                    <a:moveTo>
                      <a:pt x="0" y="192"/>
                    </a:moveTo>
                    <a:lnTo>
                      <a:pt x="0" y="0"/>
                    </a:lnTo>
                    <a:lnTo>
                      <a:pt x="336" y="0"/>
                    </a:lnTo>
                    <a:lnTo>
                      <a:pt x="336" y="192"/>
                    </a:lnTo>
                  </a:path>
                </a:pathLst>
              </a:custGeom>
              <a:solidFill>
                <a:srgbClr val="dddd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2428560" y="3214080"/>
                <a:ext cx="11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7"/>
              <p:cNvSpPr/>
              <p:nvPr/>
            </p:nvSpPr>
            <p:spPr>
              <a:xfrm flipV="1">
                <a:off x="2436480" y="2648880"/>
                <a:ext cx="1115640" cy="51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8"/>
              <p:cNvSpPr/>
              <p:nvPr/>
            </p:nvSpPr>
            <p:spPr>
              <a:xfrm>
                <a:off x="2909520" y="3006360"/>
                <a:ext cx="80640" cy="20448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48" h="96">
                    <a:moveTo>
                      <a:pt x="0" y="0"/>
                    </a:moveTo>
                    <a:cubicBezTo>
                      <a:pt x="24" y="16"/>
                      <a:pt x="48" y="32"/>
                      <a:pt x="48" y="48"/>
                    </a:cubicBezTo>
                    <a:cubicBezTo>
                      <a:pt x="48" y="64"/>
                      <a:pt x="24" y="80"/>
                      <a:pt x="0" y="96"/>
                    </a:cubicBezTo>
                  </a:path>
                </a:pathLst>
              </a:custGeom>
              <a:solidFill>
                <a:srgbClr val="ddddff">
                  <a:alpha val="50000"/>
                </a:srgbClr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39"/>
              <p:cNvSpPr/>
              <p:nvPr/>
            </p:nvSpPr>
            <p:spPr>
              <a:xfrm>
                <a:off x="3047760" y="2844360"/>
                <a:ext cx="339120" cy="459720"/>
              </a:xfrm>
              <a:prstGeom prst="rect">
                <a:avLst/>
              </a:prstGeom>
              <a:solidFill>
                <a:srgbClr val="ddddff">
                  <a:alpha val="50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40"/>
            <p:cNvGrpSpPr/>
            <p:nvPr/>
          </p:nvGrpSpPr>
          <p:grpSpPr>
            <a:xfrm>
              <a:off x="2527200" y="3911400"/>
              <a:ext cx="2882880" cy="650880"/>
              <a:chOff x="2527200" y="3911400"/>
              <a:chExt cx="2882880" cy="650880"/>
            </a:xfrm>
          </p:grpSpPr>
          <mc:AlternateContent>
            <mc:Choice xmlns:a14="http://schemas.microsoft.com/office/drawing/2010/main" Requires="a14">
              <p:sp>
                <p:nvSpPr>
                  <p:cNvPr id="117" name="Object 4"/>
                  <p:cNvSpPr txBox="1"/>
                  <p:nvPr/>
                </p:nvSpPr>
                <p:spPr>
                  <a:xfrm>
                    <a:off x="3803400" y="4289400"/>
                    <a:ext cx="382680" cy="272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Line 42"/>
              <p:cNvSpPr/>
              <p:nvPr/>
            </p:nvSpPr>
            <p:spPr>
              <a:xfrm>
                <a:off x="2527200" y="3911400"/>
                <a:ext cx="0" cy="612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43"/>
              <p:cNvSpPr/>
              <p:nvPr/>
            </p:nvSpPr>
            <p:spPr>
              <a:xfrm>
                <a:off x="5410080" y="3911400"/>
                <a:ext cx="0" cy="612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4"/>
              <p:cNvSpPr/>
              <p:nvPr/>
            </p:nvSpPr>
            <p:spPr>
              <a:xfrm>
                <a:off x="2527200" y="4356000"/>
                <a:ext cx="10220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5"/>
              <p:cNvSpPr/>
              <p:nvPr/>
            </p:nvSpPr>
            <p:spPr>
              <a:xfrm>
                <a:off x="4294080" y="4356000"/>
                <a:ext cx="11160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Rectangle 54"/>
          <p:cNvSpPr/>
          <p:nvPr/>
        </p:nvSpPr>
        <p:spPr>
          <a:xfrm>
            <a:off x="357120" y="1428840"/>
            <a:ext cx="8348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力在位移方向上的投影与该物体位移大小的乘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312200" y="1429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功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071720" y="8571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恒力作用下的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2143080" y="4929120"/>
                <a:ext cx="340380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　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571680" y="2714760"/>
                <a:ext cx="4857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7"/>
          <p:cNvSpPr/>
          <p:nvPr/>
        </p:nvSpPr>
        <p:spPr>
          <a:xfrm>
            <a:off x="6000840" y="857160"/>
            <a:ext cx="289548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9"/>
          <p:cNvSpPr/>
          <p:nvPr/>
        </p:nvSpPr>
        <p:spPr>
          <a:xfrm>
            <a:off x="6483240" y="1441440"/>
            <a:ext cx="2413080" cy="254016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2540160"/>
              <a:gd name="textAreaBottom" fmla="*/ 2540160 h 2540160"/>
            </a:gdLst>
            <a:ahLst/>
            <a:rect l="textAreaLeft" t="textAreaTop" r="textAreaRight" b="textAreaBottom"/>
            <a:pathLst>
              <a:path w="1520" h="1600">
                <a:moveTo>
                  <a:pt x="0" y="1600"/>
                </a:moveTo>
                <a:cubicBezTo>
                  <a:pt x="12" y="1519"/>
                  <a:pt x="56" y="1216"/>
                  <a:pt x="72" y="1112"/>
                </a:cubicBezTo>
                <a:cubicBezTo>
                  <a:pt x="88" y="1008"/>
                  <a:pt x="69" y="1054"/>
                  <a:pt x="98" y="976"/>
                </a:cubicBezTo>
                <a:cubicBezTo>
                  <a:pt x="127" y="898"/>
                  <a:pt x="200" y="742"/>
                  <a:pt x="249" y="646"/>
                </a:cubicBezTo>
                <a:cubicBezTo>
                  <a:pt x="298" y="550"/>
                  <a:pt x="327" y="478"/>
                  <a:pt x="391" y="400"/>
                </a:cubicBezTo>
                <a:cubicBezTo>
                  <a:pt x="455" y="322"/>
                  <a:pt x="504" y="239"/>
                  <a:pt x="630" y="176"/>
                </a:cubicBezTo>
                <a:cubicBezTo>
                  <a:pt x="756" y="113"/>
                  <a:pt x="998" y="44"/>
                  <a:pt x="1146" y="22"/>
                </a:cubicBezTo>
                <a:cubicBezTo>
                  <a:pt x="1294" y="0"/>
                  <a:pt x="1442" y="39"/>
                  <a:pt x="1520" y="43"/>
                </a:cubicBez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8143920" y="928800"/>
            <a:ext cx="4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34"/>
          <p:cNvGrpSpPr/>
          <p:nvPr/>
        </p:nvGrpSpPr>
        <p:grpSpPr>
          <a:xfrm>
            <a:off x="6357960" y="2143080"/>
            <a:ext cx="1730520" cy="1257480"/>
            <a:chOff x="6357960" y="2143080"/>
            <a:chExt cx="1730520" cy="1257480"/>
          </a:xfrm>
        </p:grpSpPr>
        <p:sp>
          <p:nvSpPr>
            <p:cNvPr id="131" name="Line 20"/>
            <p:cNvSpPr/>
            <p:nvPr/>
          </p:nvSpPr>
          <p:spPr>
            <a:xfrm>
              <a:off x="6673680" y="2914920"/>
              <a:ext cx="103500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 flipV="1">
              <a:off x="6672600" y="2429280"/>
              <a:ext cx="151560" cy="478080"/>
            </a:xfrm>
            <a:prstGeom prst="line">
              <a:avLst/>
            </a:prstGeom>
            <a:ln w="34920">
              <a:solidFill>
                <a:srgbClr val="00808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7"/>
                <p:cNvSpPr txBox="1"/>
                <p:nvPr/>
              </p:nvSpPr>
              <p:spPr>
                <a:xfrm>
                  <a:off x="7572600" y="2714760"/>
                  <a:ext cx="5158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Object 8"/>
                <p:cNvSpPr txBox="1"/>
                <p:nvPr/>
              </p:nvSpPr>
              <p:spPr>
                <a:xfrm>
                  <a:off x="6357960" y="2143080"/>
                  <a:ext cx="4111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Arc 24"/>
            <p:cNvSpPr/>
            <p:nvPr/>
          </p:nvSpPr>
          <p:spPr>
            <a:xfrm>
              <a:off x="6743520" y="2633760"/>
              <a:ext cx="206280" cy="2858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fill="none" w="21600" h="20168">
                  <a:moveTo>
                    <a:pt x="7734" y="0"/>
                  </a:moveTo>
                  <a:cubicBezTo>
                    <a:pt x="16086" y="3203"/>
                    <a:pt x="21600" y="11223"/>
                    <a:pt x="21600" y="20168"/>
                  </a:cubicBezTo>
                </a:path>
                <a:path stroke="0" w="21600" h="20168">
                  <a:moveTo>
                    <a:pt x="7734" y="0"/>
                  </a:moveTo>
                  <a:cubicBezTo>
                    <a:pt x="16086" y="3203"/>
                    <a:pt x="21600" y="11223"/>
                    <a:pt x="21600" y="20168"/>
                  </a:cubicBezTo>
                  <a:lnTo>
                    <a:pt x="0" y="20168"/>
                  </a:lnTo>
                  <a:lnTo>
                    <a:pt x="7734" y="0"/>
                  </a:lnTo>
                  <a:close/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9"/>
                <p:cNvSpPr txBox="1"/>
                <p:nvPr/>
              </p:nvSpPr>
              <p:spPr>
                <a:xfrm>
                  <a:off x="6929280" y="2571840"/>
                  <a:ext cx="261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Line 34"/>
            <p:cNvSpPr/>
            <p:nvPr/>
          </p:nvSpPr>
          <p:spPr>
            <a:xfrm flipH="1" flipV="1">
              <a:off x="6881760" y="2457360"/>
              <a:ext cx="75744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35"/>
          <p:cNvSpPr/>
          <p:nvPr/>
        </p:nvSpPr>
        <p:spPr>
          <a:xfrm>
            <a:off x="7931160" y="131436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276960" y="360036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37"/>
          <p:cNvGrpSpPr/>
          <p:nvPr/>
        </p:nvGrpSpPr>
        <p:grpSpPr>
          <a:xfrm>
            <a:off x="7500960" y="1071720"/>
            <a:ext cx="1054080" cy="1571400"/>
            <a:chOff x="7500960" y="1071720"/>
            <a:chExt cx="1054080" cy="1571400"/>
          </a:xfrm>
        </p:grpSpPr>
        <p:sp>
          <p:nvSpPr>
            <p:cNvPr id="141" name="Line 27"/>
            <p:cNvSpPr/>
            <p:nvPr/>
          </p:nvSpPr>
          <p:spPr>
            <a:xfrm>
              <a:off x="7516800" y="1695600"/>
              <a:ext cx="758880" cy="685800"/>
            </a:xfrm>
            <a:prstGeom prst="line">
              <a:avLst/>
            </a:prstGeom>
            <a:ln w="34920">
              <a:solidFill>
                <a:srgbClr val="cc00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7516800" y="1466640"/>
              <a:ext cx="414360" cy="228600"/>
            </a:xfrm>
            <a:prstGeom prst="line">
              <a:avLst/>
            </a:prstGeom>
            <a:ln w="34920">
              <a:solidFill>
                <a:srgbClr val="00808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10"/>
                <p:cNvSpPr txBox="1"/>
                <p:nvPr/>
              </p:nvSpPr>
              <p:spPr>
                <a:xfrm>
                  <a:off x="8215560" y="2071800"/>
                  <a:ext cx="3394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7500960" y="1071720"/>
                  <a:ext cx="3776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3"/>
                <p:cNvSpPr txBox="1"/>
                <p:nvPr/>
              </p:nvSpPr>
              <p:spPr>
                <a:xfrm>
                  <a:off x="7702560" y="1571760"/>
                  <a:ext cx="23652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Text Box 15"/>
          <p:cNvSpPr/>
          <p:nvPr/>
        </p:nvSpPr>
        <p:spPr>
          <a:xfrm>
            <a:off x="6458040" y="3753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35"/>
          <p:cNvGrpSpPr/>
          <p:nvPr/>
        </p:nvGrpSpPr>
        <p:grpSpPr>
          <a:xfrm>
            <a:off x="6000840" y="3233880"/>
            <a:ext cx="1407960" cy="695160"/>
            <a:chOff x="6000840" y="3233880"/>
            <a:chExt cx="1407960" cy="695160"/>
          </a:xfrm>
        </p:grpSpPr>
        <p:sp>
          <p:nvSpPr>
            <p:cNvPr id="148" name="Line 26"/>
            <p:cNvSpPr/>
            <p:nvPr/>
          </p:nvSpPr>
          <p:spPr>
            <a:xfrm flipV="1">
              <a:off x="6467400" y="3524040"/>
              <a:ext cx="550800" cy="228600"/>
            </a:xfrm>
            <a:prstGeom prst="line">
              <a:avLst/>
            </a:prstGeom>
            <a:ln w="3492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8"/>
            <p:cNvSpPr/>
            <p:nvPr/>
          </p:nvSpPr>
          <p:spPr>
            <a:xfrm flipH="1" flipV="1">
              <a:off x="6486120" y="3291840"/>
              <a:ext cx="11880" cy="464760"/>
            </a:xfrm>
            <a:prstGeom prst="line">
              <a:avLst/>
            </a:prstGeom>
            <a:ln w="34920">
              <a:solidFill>
                <a:srgbClr val="00808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11"/>
                <p:cNvSpPr txBox="1"/>
                <p:nvPr/>
              </p:nvSpPr>
              <p:spPr>
                <a:xfrm>
                  <a:off x="6000840" y="3295800"/>
                  <a:ext cx="42696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14"/>
                <p:cNvSpPr txBox="1"/>
                <p:nvPr/>
              </p:nvSpPr>
              <p:spPr>
                <a:xfrm>
                  <a:off x="6621480" y="3233880"/>
                  <a:ext cx="23652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15"/>
                <p:cNvSpPr txBox="1"/>
                <p:nvPr/>
              </p:nvSpPr>
              <p:spPr>
                <a:xfrm>
                  <a:off x="7000920" y="3357720"/>
                  <a:ext cx="407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Text Box 48"/>
          <p:cNvSpPr/>
          <p:nvPr/>
        </p:nvSpPr>
        <p:spPr>
          <a:xfrm>
            <a:off x="1143000" y="214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变力的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642960" y="4143240"/>
                <a:ext cx="47908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" name="Text Box 47"/>
          <p:cNvSpPr/>
          <p:nvPr/>
        </p:nvSpPr>
        <p:spPr>
          <a:xfrm>
            <a:off x="571680" y="3500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变力的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1785960" y="2000160"/>
                <a:ext cx="2073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70"/>
          <p:cNvSpPr/>
          <p:nvPr/>
        </p:nvSpPr>
        <p:spPr>
          <a:xfrm>
            <a:off x="714240" y="521496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在积分过程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不仅力的大小和方向可能改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而且力和线元之间的夹角也可能改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33"/>
          <p:cNvGrpSpPr/>
          <p:nvPr/>
        </p:nvGrpSpPr>
        <p:grpSpPr>
          <a:xfrm>
            <a:off x="539640" y="907920"/>
            <a:ext cx="5327640" cy="540360"/>
            <a:chOff x="539640" y="907920"/>
            <a:chExt cx="5327640" cy="540360"/>
          </a:xfrm>
        </p:grpSpPr>
        <p:sp>
          <p:nvSpPr>
            <p:cNvPr id="159" name="Text Box 49"/>
            <p:cNvSpPr/>
            <p:nvPr/>
          </p:nvSpPr>
          <p:spPr>
            <a:xfrm>
              <a:off x="539640" y="927720"/>
              <a:ext cx="53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在位移元    中，把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看作恒力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元功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dW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为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Object 33"/>
                <p:cNvSpPr txBox="1"/>
                <p:nvPr/>
              </p:nvSpPr>
              <p:spPr>
                <a:xfrm>
                  <a:off x="2195640" y="907920"/>
                  <a:ext cx="559440" cy="49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7"/>
          <p:cNvSpPr/>
          <p:nvPr/>
        </p:nvSpPr>
        <p:spPr>
          <a:xfrm>
            <a:off x="1143000" y="0"/>
            <a:ext cx="1371600" cy="722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28760" y="4786200"/>
            <a:ext cx="37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3)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功的图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5857920" y="4071960"/>
            <a:ext cx="2895480" cy="2286000"/>
            <a:chOff x="5857920" y="4071960"/>
            <a:chExt cx="2895480" cy="2286000"/>
          </a:xfrm>
        </p:grpSpPr>
        <p:sp>
          <p:nvSpPr>
            <p:cNvPr id="164" name="Rectangle 10"/>
            <p:cNvSpPr/>
            <p:nvPr/>
          </p:nvSpPr>
          <p:spPr>
            <a:xfrm>
              <a:off x="5857920" y="4071960"/>
              <a:ext cx="28954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1"/>
            <p:cNvSpPr/>
            <p:nvPr/>
          </p:nvSpPr>
          <p:spPr>
            <a:xfrm>
              <a:off x="6162480" y="588492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 flipV="1">
              <a:off x="6162480" y="428436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6467400" y="4591080"/>
              <a:ext cx="1752480" cy="69516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960" h="438">
                  <a:moveTo>
                    <a:pt x="0" y="438"/>
                  </a:moveTo>
                  <a:cubicBezTo>
                    <a:pt x="35" y="416"/>
                    <a:pt x="152" y="349"/>
                    <a:pt x="208" y="308"/>
                  </a:cubicBezTo>
                  <a:cubicBezTo>
                    <a:pt x="264" y="267"/>
                    <a:pt x="273" y="241"/>
                    <a:pt x="336" y="194"/>
                  </a:cubicBezTo>
                  <a:cubicBezTo>
                    <a:pt x="399" y="147"/>
                    <a:pt x="507" y="56"/>
                    <a:pt x="584" y="28"/>
                  </a:cubicBezTo>
                  <a:cubicBezTo>
                    <a:pt x="661" y="0"/>
                    <a:pt x="737" y="21"/>
                    <a:pt x="800" y="28"/>
                  </a:cubicBezTo>
                  <a:cubicBezTo>
                    <a:pt x="863" y="35"/>
                    <a:pt x="927" y="62"/>
                    <a:pt x="960" y="7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>
              <a:off x="6494400" y="5216400"/>
              <a:ext cx="0" cy="685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5"/>
            <p:cNvSpPr/>
            <p:nvPr/>
          </p:nvSpPr>
          <p:spPr>
            <a:xfrm>
              <a:off x="8219880" y="4665600"/>
              <a:ext cx="0" cy="12193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6"/>
                <p:cNvSpPr txBox="1"/>
                <p:nvPr/>
              </p:nvSpPr>
              <p:spPr>
                <a:xfrm>
                  <a:off x="6143760" y="4143240"/>
                  <a:ext cx="10904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17"/>
                <p:cNvSpPr txBox="1"/>
                <p:nvPr/>
              </p:nvSpPr>
              <p:spPr>
                <a:xfrm>
                  <a:off x="6286320" y="5857920"/>
                  <a:ext cx="47808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18"/>
                <p:cNvSpPr txBox="1"/>
                <p:nvPr/>
              </p:nvSpPr>
              <p:spPr>
                <a:xfrm>
                  <a:off x="8001000" y="5857920"/>
                  <a:ext cx="33480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Object 19"/>
                <p:cNvSpPr txBox="1"/>
                <p:nvPr/>
              </p:nvSpPr>
              <p:spPr>
                <a:xfrm>
                  <a:off x="7182000" y="5865840"/>
                  <a:ext cx="43956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Object 20"/>
                <p:cNvSpPr txBox="1"/>
                <p:nvPr/>
              </p:nvSpPr>
              <p:spPr>
                <a:xfrm>
                  <a:off x="8383680" y="5510160"/>
                  <a:ext cx="3492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5" name="Freeform 21"/>
            <p:cNvSpPr/>
            <p:nvPr/>
          </p:nvSpPr>
          <p:spPr>
            <a:xfrm>
              <a:off x="7305480" y="4665600"/>
              <a:ext cx="152640" cy="12193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96" h="816">
                  <a:moveTo>
                    <a:pt x="0" y="816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96" y="816"/>
                  </a:lnTo>
                  <a:lnTo>
                    <a:pt x="0" y="816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Object 22"/>
                <p:cNvSpPr txBox="1"/>
                <p:nvPr/>
              </p:nvSpPr>
              <p:spPr>
                <a:xfrm>
                  <a:off x="5933880" y="5884920"/>
                  <a:ext cx="26208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7" name="Rectangle 2"/>
          <p:cNvSpPr/>
          <p:nvPr/>
        </p:nvSpPr>
        <p:spPr>
          <a:xfrm>
            <a:off x="428760" y="1857240"/>
            <a:ext cx="5643360" cy="520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功是一个过程量，与路径有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1"/>
              <p:cNvSpPr txBox="1"/>
              <p:nvPr/>
            </p:nvSpPr>
            <p:spPr>
              <a:xfrm>
                <a:off x="1214280" y="1000080"/>
                <a:ext cx="34290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9" name="Text Box 9"/>
          <p:cNvSpPr/>
          <p:nvPr/>
        </p:nvSpPr>
        <p:spPr>
          <a:xfrm>
            <a:off x="357120" y="250020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功是标量，它无方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有正、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4"/>
          <p:cNvGrpSpPr/>
          <p:nvPr/>
        </p:nvGrpSpPr>
        <p:grpSpPr>
          <a:xfrm>
            <a:off x="1000080" y="3357720"/>
            <a:ext cx="4100040" cy="1428120"/>
            <a:chOff x="1000080" y="3357720"/>
            <a:chExt cx="4100040" cy="1428120"/>
          </a:xfrm>
        </p:grpSpPr>
        <mc:AlternateContent>
          <mc:Choice xmlns:a14="http://schemas.microsoft.com/office/drawing/2010/main" Requires="a14">
            <p:sp>
              <p:nvSpPr>
                <p:cNvPr id="181" name="Object 29"/>
                <p:cNvSpPr txBox="1"/>
                <p:nvPr/>
              </p:nvSpPr>
              <p:spPr>
                <a:xfrm>
                  <a:off x="1357200" y="3357720"/>
                  <a:ext cx="32925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°&lt;</m:t>
                      </m:r>
                      <m:r>
                        <m:t xml:space="preserve">θ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m>
                        <m:mr>
                          <m:e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dW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Object 30"/>
                <p:cNvSpPr txBox="1"/>
                <p:nvPr/>
              </p:nvSpPr>
              <p:spPr>
                <a:xfrm>
                  <a:off x="1310400" y="3841200"/>
                  <a:ext cx="3540960" cy="44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&lt;</m:t>
                      </m:r>
                      <m:r>
                        <m:t xml:space="preserve">θ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m>
                        <m:mr>
                          <m:e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dW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Object 30"/>
                <p:cNvSpPr txBox="1"/>
                <p:nvPr/>
              </p:nvSpPr>
              <p:spPr>
                <a:xfrm>
                  <a:off x="1310400" y="4313520"/>
                  <a:ext cx="3789720" cy="47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m>
                        <m:mr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AutoShape 43"/>
            <p:cNvSpPr/>
            <p:nvPr/>
          </p:nvSpPr>
          <p:spPr>
            <a:xfrm>
              <a:off x="1000080" y="3507480"/>
              <a:ext cx="248400" cy="1074600"/>
            </a:xfrm>
            <a:custGeom>
              <a:avLst/>
              <a:gdLst>
                <a:gd name="textAreaLeft" fmla="*/ 158760 w 248400"/>
                <a:gd name="textAreaRight" fmla="*/ 248760 w 248400"/>
                <a:gd name="textAreaTop" fmla="*/ 27720 h 1074600"/>
                <a:gd name="textAreaBottom" fmla="*/ 1046880 h 10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428760" y="5418000"/>
            <a:ext cx="5072040" cy="1117800"/>
            <a:chOff x="428760" y="5418000"/>
            <a:chExt cx="5072040" cy="1117800"/>
          </a:xfrm>
        </p:grpSpPr>
        <mc:AlternateContent>
          <mc:Choice xmlns:a14="http://schemas.microsoft.com/office/drawing/2010/main" Requires="a14">
            <p:sp>
              <p:nvSpPr>
                <p:cNvPr id="186" name="Object 14"/>
                <p:cNvSpPr txBox="1"/>
                <p:nvPr/>
              </p:nvSpPr>
              <p:spPr>
                <a:xfrm>
                  <a:off x="1214280" y="6000840"/>
                  <a:ext cx="42865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m</m:t>
                      </m:r>
                      <m:r>
                        <m:t xml:space="preserve">W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m>
                        <m:mr>
                          <m:e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Rectangle 5"/>
            <p:cNvSpPr/>
            <p:nvPr/>
          </p:nvSpPr>
          <p:spPr>
            <a:xfrm>
              <a:off x="428760" y="5418000"/>
              <a:ext cx="469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的量纲和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7"/>
          <p:cNvSpPr/>
          <p:nvPr/>
        </p:nvSpPr>
        <p:spPr>
          <a:xfrm>
            <a:off x="1143000" y="0"/>
            <a:ext cx="1371600" cy="722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1790280" y="785880"/>
            <a:ext cx="2935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功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直角坐标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7"/>
              <p:cNvSpPr txBox="1"/>
              <p:nvPr/>
            </p:nvSpPr>
            <p:spPr>
              <a:xfrm>
                <a:off x="1714680" y="1285920"/>
                <a:ext cx="33526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j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8"/>
              <p:cNvSpPr txBox="1"/>
              <p:nvPr/>
            </p:nvSpPr>
            <p:spPr>
              <a:xfrm>
                <a:off x="1571760" y="1785960"/>
                <a:ext cx="34290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 {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y {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z {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9"/>
              <p:cNvSpPr txBox="1"/>
              <p:nvPr/>
            </p:nvSpPr>
            <p:spPr>
              <a:xfrm>
                <a:off x="1071720" y="2357280"/>
                <a:ext cx="6357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0"/>
              <p:cNvSpPr txBox="1"/>
              <p:nvPr/>
            </p:nvSpPr>
            <p:spPr>
              <a:xfrm>
                <a:off x="2928960" y="3143160"/>
                <a:ext cx="25416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1"/>
              <p:cNvSpPr txBox="1"/>
              <p:nvPr/>
            </p:nvSpPr>
            <p:spPr>
              <a:xfrm>
                <a:off x="5000760" y="0"/>
                <a:ext cx="34290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5" name="Rectangle 3"/>
          <p:cNvSpPr/>
          <p:nvPr/>
        </p:nvSpPr>
        <p:spPr>
          <a:xfrm>
            <a:off x="1214280" y="3786120"/>
            <a:ext cx="63579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力的功，等于各分力的功的代数和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303120" y="458136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然坐标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2500200" y="4572000"/>
                <a:ext cx="25545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8"/>
              <p:cNvSpPr txBox="1"/>
              <p:nvPr/>
            </p:nvSpPr>
            <p:spPr>
              <a:xfrm>
                <a:off x="2428920" y="5286240"/>
                <a:ext cx="1787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ds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9"/>
              <p:cNvSpPr txBox="1"/>
              <p:nvPr/>
            </p:nvSpPr>
            <p:spPr>
              <a:xfrm>
                <a:off x="4786200" y="5429160"/>
                <a:ext cx="3942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7"/>
          <p:cNvSpPr/>
          <p:nvPr/>
        </p:nvSpPr>
        <p:spPr>
          <a:xfrm>
            <a:off x="1143000" y="0"/>
            <a:ext cx="1371600" cy="722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0"/>
              <p:cNvSpPr txBox="1"/>
              <p:nvPr/>
            </p:nvSpPr>
            <p:spPr>
              <a:xfrm>
                <a:off x="1071720" y="857160"/>
                <a:ext cx="39290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2" name="Text Box 1032"/>
          <p:cNvSpPr/>
          <p:nvPr/>
        </p:nvSpPr>
        <p:spPr>
          <a:xfrm>
            <a:off x="357120" y="1785960"/>
            <a:ext cx="7929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于位移与参考系的选择有关，故力做功也与参考系的选择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28760" y="2786040"/>
            <a:ext cx="8496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7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功和冲量的区别：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功是标量，冲量是矢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功是力在空间的积累，冲量是力在时间的积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力作用在物体上不一定有功的效果，但一定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冲量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5"/>
              <p:cNvSpPr txBox="1"/>
              <p:nvPr/>
            </p:nvSpPr>
            <p:spPr>
              <a:xfrm>
                <a:off x="5643720" y="2428920"/>
                <a:ext cx="21430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5643720" y="3357720"/>
                <a:ext cx="2246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2928960" y="1857240"/>
                <a:ext cx="16444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W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Rectangle 4"/>
          <p:cNvSpPr/>
          <p:nvPr/>
        </p:nvSpPr>
        <p:spPr>
          <a:xfrm>
            <a:off x="785880" y="1928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平均功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825480" y="30733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瞬时功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3071880" y="2857680"/>
                <a:ext cx="503532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W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W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3071880" y="4000680"/>
                <a:ext cx="2379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v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Group 8"/>
          <p:cNvGrpSpPr/>
          <p:nvPr/>
        </p:nvGrpSpPr>
        <p:grpSpPr>
          <a:xfrm>
            <a:off x="820800" y="4656240"/>
            <a:ext cx="6773760" cy="1293840"/>
            <a:chOff x="820800" y="4656240"/>
            <a:chExt cx="6773760" cy="1293840"/>
          </a:xfrm>
        </p:grpSpPr>
        <p:grpSp>
          <p:nvGrpSpPr>
            <p:cNvPr id="212" name="Group 9"/>
            <p:cNvGrpSpPr/>
            <p:nvPr/>
          </p:nvGrpSpPr>
          <p:grpSpPr>
            <a:xfrm>
              <a:off x="820800" y="4656240"/>
              <a:ext cx="4648320" cy="581400"/>
              <a:chOff x="820800" y="4656240"/>
              <a:chExt cx="4648320" cy="581400"/>
            </a:xfrm>
          </p:grpSpPr>
          <p:sp>
            <p:nvSpPr>
              <p:cNvPr id="213" name="Rectangle 10"/>
              <p:cNvSpPr/>
              <p:nvPr/>
            </p:nvSpPr>
            <p:spPr>
              <a:xfrm>
                <a:off x="820800" y="4656240"/>
                <a:ext cx="297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SzPct val="10287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1c1c1c"/>
                    </a:solidFill>
                    <a:latin typeface="Arial"/>
                  </a:rPr>
                  <a:t>  </a:t>
                </a:r>
                <a:r>
                  <a:rPr b="1" lang="zh-CN" sz="2800" spc="-1" strike="noStrike">
                    <a:solidFill>
                      <a:srgbClr val="1c1c1c"/>
                    </a:solidFill>
                    <a:latin typeface="Arial"/>
                  </a:rPr>
                  <a:t>功率的单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11"/>
              <p:cNvSpPr/>
              <p:nvPr/>
            </p:nvSpPr>
            <p:spPr>
              <a:xfrm>
                <a:off x="3030480" y="4656240"/>
                <a:ext cx="2438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瓦特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5" name="Object 12"/>
                <p:cNvSpPr txBox="1"/>
                <p:nvPr/>
              </p:nvSpPr>
              <p:spPr>
                <a:xfrm>
                  <a:off x="5000760" y="5286600"/>
                  <a:ext cx="259380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kW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Object 13"/>
                <p:cNvSpPr txBox="1"/>
                <p:nvPr/>
              </p:nvSpPr>
              <p:spPr>
                <a:xfrm>
                  <a:off x="2286000" y="5286600"/>
                  <a:ext cx="221148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Rectangle 20"/>
          <p:cNvSpPr/>
          <p:nvPr/>
        </p:nvSpPr>
        <p:spPr>
          <a:xfrm>
            <a:off x="1071720" y="2142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5"/>
          <p:cNvGrpSpPr/>
          <p:nvPr/>
        </p:nvGrpSpPr>
        <p:grpSpPr>
          <a:xfrm>
            <a:off x="642960" y="1000080"/>
            <a:ext cx="6167520" cy="581400"/>
            <a:chOff x="642960" y="1000080"/>
            <a:chExt cx="6167520" cy="581400"/>
          </a:xfrm>
        </p:grpSpPr>
        <p:sp>
          <p:nvSpPr>
            <p:cNvPr id="219" name="Rectangle 8"/>
            <p:cNvSpPr/>
            <p:nvPr/>
          </p:nvSpPr>
          <p:spPr>
            <a:xfrm>
              <a:off x="1635120" y="1000080"/>
              <a:ext cx="517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力在单位时间 内所完成的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3"/>
            <p:cNvSpPr/>
            <p:nvPr/>
          </p:nvSpPr>
          <p:spPr>
            <a:xfrm>
              <a:off x="642960" y="1000080"/>
              <a:ext cx="106668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487e"/>
                  </a:solidFill>
                  <a:latin typeface="Arial"/>
                </a:rPr>
                <a:t>概念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09480" y="981000"/>
            <a:ext cx="57628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一质量为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m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小球竖直落入水中， 刚接触水面时其速率为     ．设此球在水中所受的浮力与重力相等，水的阻力为                  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为一常量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求阻力对球作的功与时间的函数关系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2309760" y="2133720"/>
                <a:ext cx="533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557360" y="3422520"/>
                <a:ext cx="19778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v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5"/>
          <p:cNvSpPr/>
          <p:nvPr/>
        </p:nvSpPr>
        <p:spPr>
          <a:xfrm>
            <a:off x="6923160" y="2112840"/>
            <a:ext cx="1752480" cy="297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7885080" y="196056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a9652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8066160" y="249408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8"/>
          <p:cNvGraphicFramePr/>
          <p:nvPr/>
        </p:nvGraphicFramePr>
        <p:xfrm>
          <a:off x="7848720" y="3179880"/>
          <a:ext cx="52200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3179880"/>
                    <a:ext cx="5220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9"/>
          <p:cNvSpPr/>
          <p:nvPr/>
        </p:nvSpPr>
        <p:spPr>
          <a:xfrm>
            <a:off x="7684920" y="1274760"/>
            <a:ext cx="0" cy="3657600"/>
          </a:xfrm>
          <a:prstGeom prst="line">
            <a:avLst/>
          </a:prstGeom>
          <a:ln w="1908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7705800" y="4545000"/>
                <a:ext cx="512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Line 11"/>
          <p:cNvSpPr/>
          <p:nvPr/>
        </p:nvSpPr>
        <p:spPr>
          <a:xfrm>
            <a:off x="7075440" y="21128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2"/>
              <p:cNvSpPr txBox="1"/>
              <p:nvPr/>
            </p:nvSpPr>
            <p:spPr>
              <a:xfrm>
                <a:off x="7289640" y="1960560"/>
                <a:ext cx="331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Line 13"/>
          <p:cNvSpPr/>
          <p:nvPr/>
        </p:nvSpPr>
        <p:spPr>
          <a:xfrm>
            <a:off x="7304040" y="2417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7380360" y="272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7837560" y="249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8218440" y="257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7608960" y="2874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7837560" y="2341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8294760" y="2341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7380360" y="2417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7227720" y="257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7684920" y="2646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3"/>
          <p:cNvSpPr/>
          <p:nvPr/>
        </p:nvSpPr>
        <p:spPr>
          <a:xfrm>
            <a:off x="7304040" y="295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4"/>
          <p:cNvSpPr/>
          <p:nvPr/>
        </p:nvSpPr>
        <p:spPr>
          <a:xfrm>
            <a:off x="7151760" y="226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5"/>
          <p:cNvSpPr/>
          <p:nvPr/>
        </p:nvSpPr>
        <p:spPr>
          <a:xfrm>
            <a:off x="8142120" y="272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8142120" y="295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6923160" y="1122480"/>
            <a:ext cx="175248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32000" y="98100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　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建立如右图所示的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403280" y="1579680"/>
                <a:ext cx="4392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nary>
                    <m:r>
                      <m:t xml:space="preserve">r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r>
                          <m:t xml:space="preserve">bv</m:t>
                        </m:r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4">
            <a:hlinkClick r:id="rId1"/>
          </p:cNvPr>
          <p:cNvSpPr/>
          <p:nvPr/>
        </p:nvSpPr>
        <p:spPr>
          <a:xfrm>
            <a:off x="561960" y="3654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又由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2 - 4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节例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4233960" y="3471840"/>
                <a:ext cx="1993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1476360" y="4221000"/>
                <a:ext cx="45356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b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1981080" y="5135400"/>
                <a:ext cx="37432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8"/>
          <p:cNvSpPr/>
          <p:nvPr/>
        </p:nvSpPr>
        <p:spPr>
          <a:xfrm>
            <a:off x="6923160" y="2112840"/>
            <a:ext cx="1752480" cy="297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7885080" y="196056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a9652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8066160" y="249408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11"/>
          <p:cNvGraphicFramePr/>
          <p:nvPr/>
        </p:nvGraphicFramePr>
        <p:xfrm>
          <a:off x="7848720" y="3179880"/>
          <a:ext cx="522000" cy="65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3179880"/>
                    <a:ext cx="5220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12"/>
          <p:cNvSpPr/>
          <p:nvPr/>
        </p:nvSpPr>
        <p:spPr>
          <a:xfrm>
            <a:off x="7684920" y="1274760"/>
            <a:ext cx="0" cy="3657600"/>
          </a:xfrm>
          <a:prstGeom prst="line">
            <a:avLst/>
          </a:prstGeom>
          <a:ln w="1908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3"/>
              <p:cNvSpPr txBox="1"/>
              <p:nvPr/>
            </p:nvSpPr>
            <p:spPr>
              <a:xfrm>
                <a:off x="7705800" y="4545000"/>
                <a:ext cx="512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Line 14"/>
          <p:cNvSpPr/>
          <p:nvPr/>
        </p:nvSpPr>
        <p:spPr>
          <a:xfrm>
            <a:off x="7075440" y="21128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5"/>
              <p:cNvSpPr txBox="1"/>
              <p:nvPr/>
            </p:nvSpPr>
            <p:spPr>
              <a:xfrm>
                <a:off x="7289640" y="1960560"/>
                <a:ext cx="331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Line 16"/>
          <p:cNvSpPr/>
          <p:nvPr/>
        </p:nvSpPr>
        <p:spPr>
          <a:xfrm>
            <a:off x="7304040" y="2417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7380360" y="272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7837560" y="249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9"/>
          <p:cNvSpPr/>
          <p:nvPr/>
        </p:nvSpPr>
        <p:spPr>
          <a:xfrm>
            <a:off x="8218440" y="257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0"/>
          <p:cNvSpPr/>
          <p:nvPr/>
        </p:nvSpPr>
        <p:spPr>
          <a:xfrm>
            <a:off x="7608960" y="2874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>
            <a:off x="7837560" y="2341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8294760" y="2341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7380360" y="2417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7227720" y="257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5"/>
          <p:cNvSpPr/>
          <p:nvPr/>
        </p:nvSpPr>
        <p:spPr>
          <a:xfrm>
            <a:off x="7684920" y="2646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7304040" y="295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7"/>
          <p:cNvSpPr/>
          <p:nvPr/>
        </p:nvSpPr>
        <p:spPr>
          <a:xfrm>
            <a:off x="7151760" y="226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8"/>
          <p:cNvSpPr/>
          <p:nvPr/>
        </p:nvSpPr>
        <p:spPr>
          <a:xfrm>
            <a:off x="8142120" y="272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9"/>
          <p:cNvSpPr/>
          <p:nvPr/>
        </p:nvSpPr>
        <p:spPr>
          <a:xfrm>
            <a:off x="8142120" y="295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6923160" y="1122480"/>
            <a:ext cx="175248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31"/>
              <p:cNvSpPr txBox="1"/>
              <p:nvPr/>
            </p:nvSpPr>
            <p:spPr>
              <a:xfrm>
                <a:off x="1908000" y="2370240"/>
                <a:ext cx="4751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v</m:t>
                        </m:r>
                      </m:e>
                    </m:nary>
                    <m:f>
                      <m:num>
                        <m:r>
                          <m:t xml:space="preserve">dx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d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7:57:11Z</dcterms:created>
  <dc:creator>MC SYSTEM</dc:creator>
  <dc:description/>
  <dc:language>en-US</dc:language>
  <cp:lastModifiedBy>User</cp:lastModifiedBy>
  <dcterms:modified xsi:type="dcterms:W3CDTF">2019-03-20T10:10:23Z</dcterms:modified>
  <cp:revision>87</cp:revision>
  <dc:subject/>
  <dc:title>3-4  动 能 定 理</dc:title>
</cp:coreProperties>
</file>